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2DE-46F9-4005-9AE6-86DD46D7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321-DE1C-4A48-90BA-25EFAEB3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99B-7DCC-4FCA-AF34-1450AECF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01D-4CA9-4E33-A1CD-BEDF691B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C9A-5143-4A4D-B58C-68324EF9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691-AD81-45D2-A610-2381668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902-96CA-4631-B811-BC147767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A9B-8742-46BF-B227-554E80F8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97A-959B-420E-9997-35D3D3A7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17E-516A-4793-8BA1-87CD570C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E85-2058-40F7-BE3F-44A7F65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CC6-C680-4B1F-A2C5-5AE3BF15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FFB3-0A39-4119-A0D5-AB706213A5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hotos/saspotato/" TargetMode="External"/><Relationship Id="rId3" Type="http://schemas.openxmlformats.org/officeDocument/2006/relationships/hyperlink" Target="http://www.flickr.com/photos/saspotato/" TargetMode="External"/><Relationship Id="rId4" Type="http://schemas.openxmlformats.org/officeDocument/2006/relationships/hyperlink" Target="http://www.flickr.com/photos/saspotato/6829273296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thirtysixmillion/7475983744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bs.org/kqed/oceanadventures/educators/library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topedia.com/items/flickr-418966803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greennblue2000/4142265752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otopedia.com/items/flickr-5435112145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7/The_Earth_seen_from_Apollo_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Close up of dermochelys coriacea leatherback turtle copyright friendly photo"/>
          <p:cNvPicPr/>
          <p:nvPr/>
        </p:nvPicPr>
        <p:blipFill>
          <a:blip r:embed="rId1"/>
          <a:stretch/>
        </p:blipFill>
        <p:spPr>
          <a:xfrm>
            <a:off x="5724360" y="4076640"/>
            <a:ext cx="2087640" cy="151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ea, lion, seal, ecuador, island, pacific, ocean"/>
          <p:cNvPicPr/>
          <p:nvPr/>
        </p:nvPicPr>
        <p:blipFill>
          <a:blip r:embed="rId2"/>
          <a:stretch/>
        </p:blipFill>
        <p:spPr>
          <a:xfrm>
            <a:off x="1835280" y="4076640"/>
            <a:ext cx="208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4416896747_180fefcc57_z"/>
          <p:cNvPicPr/>
          <p:nvPr/>
        </p:nvPicPr>
        <p:blipFill>
          <a:blip r:embed="rId3"/>
          <a:stretch/>
        </p:blipFill>
        <p:spPr>
          <a:xfrm>
            <a:off x="5724360" y="1916280"/>
            <a:ext cx="2089440" cy="1498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1453329637_5cbf0b8530"/>
          <p:cNvPicPr/>
          <p:nvPr/>
        </p:nvPicPr>
        <p:blipFill>
          <a:blip r:embed="rId4"/>
          <a:stretch/>
        </p:blipFill>
        <p:spPr>
          <a:xfrm>
            <a:off x="1835280" y="1916280"/>
            <a:ext cx="2087280" cy="1533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9. Which of these species is not normally found in Welsh sea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b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lions are found in most seas, apart from the northern Atlantic ocean. All the other species are found in Welsh s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h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 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276720" y="1916280"/>
            <a:ext cx="64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MT"/>
              </a:rPr>
              <a:t>Alex Griffio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7164360" y="19162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Alfiero Brisot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348000" y="1989000"/>
            <a:ext cx="50328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7236000" y="1989000"/>
            <a:ext cx="50472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0. Which animal releases ink to defend itself against pred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k confuses predators so the cuttlefish can swim away. Squid and octopus also do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73760" cy="3611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195640" y="3375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5" descr="File:Cetorhinus maximus by greg skomal.JPG"/>
          <p:cNvPicPr/>
          <p:nvPr/>
        </p:nvPicPr>
        <p:blipFill>
          <a:blip r:embed="rId1"/>
          <a:stretch/>
        </p:blipFill>
        <p:spPr>
          <a:xfrm>
            <a:off x="2843280" y="1628640"/>
            <a:ext cx="3744720" cy="394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1. What is the biggest fish in Welsh s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king sharks can grow to 10m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195640" y="328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633760" cy="2501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2. Which bird does this colourful bill belong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uffin’s colourful beaks are brightest in the breeding season (spring &amp; sum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268360" y="357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5295240" y="494172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dreas Tre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435640" y="4941720"/>
            <a:ext cx="72072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2095200" cy="151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3984524861_76388b27f3"/>
          <p:cNvPicPr/>
          <p:nvPr/>
        </p:nvPicPr>
        <p:blipFill>
          <a:blip r:embed="rId2"/>
          <a:stretch/>
        </p:blipFill>
        <p:spPr>
          <a:xfrm>
            <a:off x="5724360" y="1916280"/>
            <a:ext cx="2098800" cy="148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File:Cetorhinus maximus by greg skomal.JPG"/>
          <p:cNvPicPr/>
          <p:nvPr/>
        </p:nvPicPr>
        <p:blipFill>
          <a:blip r:embed="rId3"/>
          <a:srcRect l="0" t="19635" r="0" b="11039"/>
          <a:stretch/>
        </p:blipFill>
        <p:spPr>
          <a:xfrm>
            <a:off x="5724360" y="4076640"/>
            <a:ext cx="2087640" cy="152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Bottlenose dolphin"/>
          <p:cNvPicPr/>
          <p:nvPr/>
        </p:nvPicPr>
        <p:blipFill>
          <a:blip r:embed="rId4"/>
          <a:stretch/>
        </p:blipFill>
        <p:spPr>
          <a:xfrm>
            <a:off x="1835280" y="1916280"/>
            <a:ext cx="2089080" cy="1512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3. Which of these isn’t a mammal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asking shark is a type of fish. All the others are mam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lp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500280" y="1916280"/>
            <a:ext cx="40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7308720" y="1916280"/>
            <a:ext cx="4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451640" y="1989000"/>
            <a:ext cx="2574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4. What are baby seal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by seals are called ‘pup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47640" y="1557360"/>
            <a:ext cx="6147000" cy="4103280"/>
            <a:chOff x="1547640" y="1557360"/>
            <a:chExt cx="6147000" cy="4103280"/>
          </a:xfrm>
        </p:grpSpPr>
        <p:pic>
          <p:nvPicPr>
            <p:cNvPr id="211" name="" descr="Grey seal pup, Donna Nook"/>
            <p:cNvPicPr/>
            <p:nvPr/>
          </p:nvPicPr>
          <p:blipFill>
            <a:blip r:embed="rId1"/>
            <a:stretch/>
          </p:blipFill>
          <p:spPr>
            <a:xfrm>
              <a:off x="1547640" y="1557360"/>
              <a:ext cx="60962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878520" y="5445000"/>
              <a:ext cx="81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Julian Dow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8360" y="5445000"/>
              <a:ext cx="6480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5. Where does the little tern go in wi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st Africa. Their journey is called a ‘migration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768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. What gas does seaweed prod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6829273296_6c2e18b835_c"/>
          <p:cNvPicPr/>
          <p:nvPr/>
        </p:nvPicPr>
        <p:blipFill>
          <a:blip r:embed="rId1"/>
          <a:stretch/>
        </p:blipFill>
        <p:spPr>
          <a:xfrm>
            <a:off x="2340000" y="1844640"/>
            <a:ext cx="4740120" cy="35560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01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4" name="Freeform 99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0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"/>
          <p:cNvSpPr/>
          <p:nvPr/>
        </p:nvSpPr>
        <p:spPr>
          <a:xfrm>
            <a:off x="2124000" y="3068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"/>
          <p:cNvSpPr/>
          <p:nvPr/>
        </p:nvSpPr>
        <p:spPr>
          <a:xfrm>
            <a:off x="6443640" y="5157720"/>
            <a:ext cx="64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aspot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5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6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like trees, seaweed releases oxygen into the atmosphere and absorbs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>
            <a:hlinkClick r:id="rId4"/>
          </p:cNvPr>
          <p:cNvSpPr/>
          <p:nvPr/>
        </p:nvSpPr>
        <p:spPr>
          <a:xfrm>
            <a:off x="6516720" y="5157720"/>
            <a:ext cx="50328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7475983744_b137cb46cb_z"/>
          <p:cNvPicPr/>
          <p:nvPr/>
        </p:nvPicPr>
        <p:blipFill>
          <a:blip r:embed="rId1"/>
          <a:stretch/>
        </p:blipFill>
        <p:spPr>
          <a:xfrm>
            <a:off x="2050920" y="1557360"/>
            <a:ext cx="54007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2. What is a mermaid</a:t>
            </a:r>
            <a:r>
              <a:rPr b="0" lang="ja-JP" sz="4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 purse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124000" y="2852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ggcase of sharks, skates and 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Young sharks, skates and rays hatch from these eggcases which then wash up on the sh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372360" y="530208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son Chamberl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>
            <a:hlinkClick r:id="rId2"/>
          </p:cNvPr>
          <p:cNvSpPr/>
          <p:nvPr/>
        </p:nvSpPr>
        <p:spPr>
          <a:xfrm>
            <a:off x="6443640" y="5300640"/>
            <a:ext cx="936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polarbear-800"/>
          <p:cNvPicPr/>
          <p:nvPr/>
        </p:nvPicPr>
        <p:blipFill>
          <a:blip r:embed="rId1"/>
          <a:stretch/>
        </p:blipFill>
        <p:spPr>
          <a:xfrm>
            <a:off x="2124000" y="1700280"/>
            <a:ext cx="5027760" cy="3770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. At which pole does the polar bear liv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rth p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olar bears only live in the northern hemisphere, including Canada, Norway, Russia and Greenland and aren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 found at the south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>
            <a:hlinkClick r:id="rId2"/>
          </p:cNvPr>
          <p:cNvSpPr/>
          <p:nvPr/>
        </p:nvSpPr>
        <p:spPr>
          <a:xfrm>
            <a:off x="2195640" y="49417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Dive_Site_-_Seychelles"/>
          <p:cNvPicPr/>
          <p:nvPr/>
        </p:nvPicPr>
        <p:blipFill>
          <a:blip r:embed="rId1"/>
          <a:stretch/>
        </p:blipFill>
        <p:spPr>
          <a:xfrm>
            <a:off x="1908000" y="1844640"/>
            <a:ext cx="5534280" cy="3602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. What is a group of fish call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h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group of fish is known as a shoal or school. The biggest shoals can contain millions of f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dre Pin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>
            <a:hlinkClick r:id="rId2"/>
          </p:cNvPr>
          <p:cNvSpPr/>
          <p:nvPr/>
        </p:nvSpPr>
        <p:spPr>
          <a:xfrm>
            <a:off x="6659640" y="5300640"/>
            <a:ext cx="649080" cy="144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4142265752_71881a417f_z"/>
          <p:cNvPicPr/>
          <p:nvPr/>
        </p:nvPicPr>
        <p:blipFill>
          <a:blip r:embed="rId1"/>
          <a:stretch/>
        </p:blipFill>
        <p:spPr>
          <a:xfrm>
            <a:off x="2195640" y="1773360"/>
            <a:ext cx="5159160" cy="3692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. Which is the biggest sea bir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bat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iggest of all is the wandering albatross which has a wingspan of up to 3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tarcticB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>
            <a:hlinkClick r:id="rId2"/>
          </p:cNvPr>
          <p:cNvSpPr/>
          <p:nvPr/>
        </p:nvSpPr>
        <p:spPr>
          <a:xfrm>
            <a:off x="6659640" y="5229360"/>
            <a:ext cx="649080" cy="215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Coral reef - Nick Hobgood"/>
          <p:cNvPicPr/>
          <p:nvPr/>
        </p:nvPicPr>
        <p:blipFill>
          <a:blip r:embed="rId1"/>
          <a:stretch/>
        </p:blipFill>
        <p:spPr>
          <a:xfrm>
            <a:off x="2987640" y="1484280"/>
            <a:ext cx="3227400" cy="4111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6. Is coral an animal or plan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0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ach coral 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lan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s actually made from thousands of tiny animals that live together in a col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64000" y="5373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ick Hobgo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>
            <a:hlinkClick r:id="rId2"/>
          </p:cNvPr>
          <p:cNvSpPr/>
          <p:nvPr/>
        </p:nvSpPr>
        <p:spPr>
          <a:xfrm>
            <a:off x="5435640" y="5373720"/>
            <a:ext cx="720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Sea_Turtle_Honokahau_Kona_Hawaii"/>
          <p:cNvPicPr/>
          <p:nvPr/>
        </p:nvPicPr>
        <p:blipFill>
          <a:blip r:embed="rId1"/>
          <a:stretch/>
        </p:blipFill>
        <p:spPr>
          <a:xfrm>
            <a:off x="2124000" y="1628640"/>
            <a:ext cx="5207040" cy="3903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7. What does a sea turtle ea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1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turtles feed on jellyfish. Sadly many turtles die each year after eating plastic bags floating in the sea which they mistake for jelly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732720" y="5300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t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>
            <a:hlinkClick r:id="rId2"/>
          </p:cNvPr>
          <p:cNvSpPr/>
          <p:nvPr/>
        </p:nvSpPr>
        <p:spPr>
          <a:xfrm>
            <a:off x="6804000" y="5300640"/>
            <a:ext cx="43200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File:The Earth seen from Apollo 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844640"/>
            <a:ext cx="3573360" cy="3573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8. How much of the Earth is covered by water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3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70% of the Earth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 surface is covered by water. Almost all of that (97%) is seawa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52:33Z</dcterms:created>
  <dc:creator>eli93093</dc:creator>
  <dc:description/>
  <dc:language>en-US</dc:language>
  <cp:lastModifiedBy>eli93093</cp:lastModifiedBy>
  <dcterms:modified xsi:type="dcterms:W3CDTF">2013-10-11T12:51:36Z</dcterms:modified>
  <cp:revision>21</cp:revision>
  <dc:subject/>
  <dc:title>Marine &amp; Coastal Biodiversity</dc:title>
</cp:coreProperties>
</file>