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6536-8532-43D3-A91E-28D76B10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9423-50D7-4AE9-8B2F-75A55CF2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A11B-5CFC-46F7-AF07-52EF4CB4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D205-78E8-4947-91A7-C235CD01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D99-125E-4E3C-8A56-E6DF4FBE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7A04-707C-44D3-AD03-4FD05B4B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0E8-3F32-4032-B005-54970F65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5F16-E0C0-43F6-8D53-BF196426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7753-8160-4E27-A5FF-9A7E3B28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650A-EDD3-4DAF-80D5-047A5A5C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AD0-731C-45C5-BBBD-8C980E38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D48-3352-4AEE-9F21-3228AF8E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BD60-3E9A-4952-8B3C-40906768D0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www.flickr.com/photos/foxypar4/2334761926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2/2f/Medusa-acquario_di_Genova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en.wikipedia.org/wiki/File:Medusa-acquario_di_Genova.jpg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0/0b/Cetorhinus_maximus_by_greg_skomal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8/8c/Puffin_Latrabjarg_Iceland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en.wikipedia.org/wiki/File:Puffin_Latrabjarg_Iceland.jpg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file://upload.wikimedia.org/wikipedia/commons/a/a9/Actinia_equina_(Boulogne-sur-Mer)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commons.wikimedia.org/wiki/File:Actinia_equina_(Boulogne-sur-Mer).jpg" TargetMode="Externa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flickr.com/photos/oldbilluk/3984524861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geograph.org.uk/photo/229587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hyperlink" Target="http://commons.wikimedia.org/w/index.php?title=User:AVampireTear&amp;action=edit&amp;redlink=1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lickr.com/photos/jeffk42/2842809568/sizes/o/in/photostrea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hyperlink" Target="http://www.geograph.org.uk/photo/1002137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flickr.com/photos/jlynott/9437409441/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hyperlink" Target="http://commons.wikimedia.org/w/index.php?title=User:AVampireTear&amp;action=edit&amp;redlink=1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geograph.org.uk/photo/1002137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/index.php?title=User:AVampireTear&amp;action=edit&amp;redlink=1" TargetMode="External"/><Relationship Id="rId2" Type="http://schemas.openxmlformats.org/officeDocument/2006/relationships/hyperlink" Target="http://commons.wikimedia.org/w/index.php?title=User:AVampireTear&amp;action=edit&amp;redlink=1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en.wikipedia.org/wiki/File:Sepia_officinalis_(aquarium).jpg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Marine &amp; Coastal Wildlife</a:t>
            </a:r>
            <a:br>
              <a:rPr sz="5400"/>
            </a:b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of Wal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43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DCC1"/>
          <p:cNvPicPr/>
          <p:nvPr/>
        </p:nvPicPr>
        <p:blipFill>
          <a:blip r:embed="rId1"/>
          <a:stretch/>
        </p:blipFill>
        <p:spPr>
          <a:xfrm>
            <a:off x="3203640" y="5589720"/>
            <a:ext cx="1366920" cy="474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bionet logo no text"/>
          <p:cNvPicPr/>
          <p:nvPr/>
        </p:nvPicPr>
        <p:blipFill>
          <a:blip r:embed="rId2"/>
          <a:stretch/>
        </p:blipFill>
        <p:spPr>
          <a:xfrm>
            <a:off x="4932360" y="5427720"/>
            <a:ext cx="14400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4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hore cr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rabs are crustac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Very common on Welsh co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ind them in rock pools and on sandy be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Hard shell is known as a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arapace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ront legs have pin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Eats molluscs, worms and other crustac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0"/>
          <p:cNvGrpSpPr/>
          <p:nvPr/>
        </p:nvGrpSpPr>
        <p:grpSpPr>
          <a:xfrm>
            <a:off x="5651640" y="2349360"/>
            <a:ext cx="3106440" cy="2087640"/>
            <a:chOff x="5651640" y="2349360"/>
            <a:chExt cx="3106440" cy="2087640"/>
          </a:xfrm>
        </p:grpSpPr>
        <p:pic>
          <p:nvPicPr>
            <p:cNvPr id="149" name="Picture 15" descr="2334761926_b9d04b1a4f"/>
            <p:cNvPicPr/>
            <p:nvPr/>
          </p:nvPicPr>
          <p:blipFill>
            <a:blip r:embed="rId3"/>
            <a:stretch/>
          </p:blipFill>
          <p:spPr>
            <a:xfrm>
              <a:off x="5651640" y="2349360"/>
              <a:ext cx="3106440" cy="20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8"/>
            <p:cNvSpPr/>
            <p:nvPr/>
          </p:nvSpPr>
          <p:spPr>
            <a:xfrm>
              <a:off x="7958160" y="4221000"/>
              <a:ext cx="776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John Hasl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9">
              <a:hlinkClick r:id="rId4"/>
            </p:cNvPr>
            <p:cNvSpPr/>
            <p:nvPr/>
          </p:nvSpPr>
          <p:spPr>
            <a:xfrm>
              <a:off x="8028000" y="4221000"/>
              <a:ext cx="647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53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elly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ots of different species of jellyfish in Welsh s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mportant food source for many marine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he tentacles are used to catch p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 some species the tentacles have powerful s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mmonly found washed up on be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9"/>
          <p:cNvGrpSpPr/>
          <p:nvPr/>
        </p:nvGrpSpPr>
        <p:grpSpPr>
          <a:xfrm>
            <a:off x="5580000" y="2349360"/>
            <a:ext cx="3247920" cy="2673360"/>
            <a:chOff x="5580000" y="2349360"/>
            <a:chExt cx="3247920" cy="2673360"/>
          </a:xfrm>
        </p:grpSpPr>
        <p:pic>
          <p:nvPicPr>
            <p:cNvPr id="162" name="Picture 16" descr="File:Medusa-acquario di Genova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580000" y="2349360"/>
              <a:ext cx="322740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7"/>
            <p:cNvSpPr/>
            <p:nvPr/>
          </p:nvSpPr>
          <p:spPr>
            <a:xfrm>
              <a:off x="7813440" y="4797360"/>
              <a:ext cx="1014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rancesco Cripp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8">
              <a:hlinkClick r:id="rId5"/>
            </p:cNvPr>
            <p:cNvSpPr/>
            <p:nvPr/>
          </p:nvSpPr>
          <p:spPr>
            <a:xfrm>
              <a:off x="7885080" y="4797360"/>
              <a:ext cx="863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6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sking sh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Biggest fish in Welsh s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Grow up to 10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Eat tiny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lankton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which they filter from th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n summer they migrate through the sea around W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Usually so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Aren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 dangerous to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5" descr="File:Cetorhinus maximus by greg skoma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1916280"/>
            <a:ext cx="343548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7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f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mall seabirds with bright orange feet and colourful b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 summer breed on coast, including parts of Angles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ay single egg in bu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pend winter out at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eed on small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"/>
          <p:cNvGrpSpPr/>
          <p:nvPr/>
        </p:nvGrpSpPr>
        <p:grpSpPr>
          <a:xfrm>
            <a:off x="5364000" y="2268360"/>
            <a:ext cx="3443400" cy="2816280"/>
            <a:chOff x="5364000" y="2268360"/>
            <a:chExt cx="3443400" cy="2816280"/>
          </a:xfrm>
        </p:grpSpPr>
        <p:pic>
          <p:nvPicPr>
            <p:cNvPr id="185" name="Picture 13" descr="File:Puffin Latrabjarg Iceland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364000" y="2268360"/>
              <a:ext cx="3443400" cy="28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4"/>
            <p:cNvSpPr/>
            <p:nvPr/>
          </p:nvSpPr>
          <p:spPr>
            <a:xfrm>
              <a:off x="8177400" y="486864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awor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>
              <a:hlinkClick r:id="rId5"/>
            </p:cNvPr>
            <p:cNvSpPr/>
            <p:nvPr/>
          </p:nvSpPr>
          <p:spPr>
            <a:xfrm>
              <a:off x="8172360" y="4868640"/>
              <a:ext cx="576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89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rbour porp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orpoises are related to dolph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ound along most of the Welsh c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Best time to see them is between August and 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eed on fish e.g. herring and macker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3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>
            <a:hlinkClick r:id="rId3"/>
          </p:cNvPr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435640" y="2133720"/>
            <a:ext cx="3344760" cy="2734920"/>
            <a:chOff x="5435640" y="2133720"/>
            <a:chExt cx="3344760" cy="2734920"/>
          </a:xfrm>
        </p:grpSpPr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5435640" y="2133720"/>
              <a:ext cx="3311640" cy="27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959600" y="4653000"/>
              <a:ext cx="82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Allan Brand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02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atherback tur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is reptile is the world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s largest marine tur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eed mainly on jelly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ome to Welsh seas in summer looking for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Breed on tropical beaches e.g. in Carib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ritically endang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6" descr="Close up of dermochelys coriacea leatherback turtle"/>
          <p:cNvPicPr/>
          <p:nvPr/>
        </p:nvPicPr>
        <p:blipFill>
          <a:blip r:embed="rId3"/>
          <a:stretch/>
        </p:blipFill>
        <p:spPr>
          <a:xfrm>
            <a:off x="5219640" y="2421000"/>
            <a:ext cx="352116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12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a anem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Related to jelly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entacles have stinging barbs to capture small creatures like shri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t low tide anemones look like small blobs of jelly (the tentacles are hidde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ook for anemones in rock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6"/>
          <p:cNvGrpSpPr/>
          <p:nvPr/>
        </p:nvGrpSpPr>
        <p:grpSpPr>
          <a:xfrm>
            <a:off x="5796000" y="2398680"/>
            <a:ext cx="3097440" cy="2335320"/>
            <a:chOff x="5796000" y="2398680"/>
            <a:chExt cx="3097440" cy="2335320"/>
          </a:xfrm>
        </p:grpSpPr>
        <p:pic>
          <p:nvPicPr>
            <p:cNvPr id="221" name="Picture 13" descr="File:Actinia equina (Boulogne-sur-Mer)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796000" y="2398680"/>
              <a:ext cx="3073320" cy="23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4"/>
            <p:cNvSpPr/>
            <p:nvPr/>
          </p:nvSpPr>
          <p:spPr>
            <a:xfrm>
              <a:off x="7081920" y="4365720"/>
              <a:ext cx="181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© Hans Hillewaert / CC-BY-SA-3.0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5">
              <a:hlinkClick r:id="rId5"/>
            </p:cNvPr>
            <p:cNvSpPr/>
            <p:nvPr/>
          </p:nvSpPr>
          <p:spPr>
            <a:xfrm>
              <a:off x="7164360" y="4508640"/>
              <a:ext cx="165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2" descr="3984524861_76388b27f3"/>
          <p:cNvPicPr/>
          <p:nvPr/>
        </p:nvPicPr>
        <p:blipFill>
          <a:blip r:embed="rId1"/>
          <a:stretch/>
        </p:blipFill>
        <p:spPr>
          <a:xfrm>
            <a:off x="5292720" y="2492280"/>
            <a:ext cx="3538440" cy="250524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2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rey s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40% of the world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s population of Atlantic grey seals can be found in the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e largest colonies on the Welsh coast are on islands off Pembrokesh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e seals give birth during the autumn in isolated coves away from disturb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Baby seals are called p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8269200" y="4797360"/>
            <a:ext cx="54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oldbill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">
            <a:hlinkClick r:id="rId2"/>
          </p:cNvPr>
          <p:cNvSpPr/>
          <p:nvPr/>
        </p:nvSpPr>
        <p:spPr>
          <a:xfrm>
            <a:off x="8317080" y="4797360"/>
            <a:ext cx="43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19"/>
          <p:cNvGrpSpPr/>
          <p:nvPr/>
        </p:nvGrpSpPr>
        <p:grpSpPr>
          <a:xfrm>
            <a:off x="5435640" y="2276640"/>
            <a:ext cx="3216240" cy="2457360"/>
            <a:chOff x="5435640" y="2276640"/>
            <a:chExt cx="3216240" cy="2457360"/>
          </a:xfrm>
        </p:grpSpPr>
        <p:pic>
          <p:nvPicPr>
            <p:cNvPr id="235" name="Picture 16" descr="Herring gull at Kynance Cove"/>
            <p:cNvPicPr/>
            <p:nvPr/>
          </p:nvPicPr>
          <p:blipFill>
            <a:blip r:embed="rId1"/>
            <a:stretch/>
          </p:blipFill>
          <p:spPr>
            <a:xfrm>
              <a:off x="5435640" y="2276640"/>
              <a:ext cx="3216240" cy="24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7"/>
            <p:cNvSpPr/>
            <p:nvPr/>
          </p:nvSpPr>
          <p:spPr>
            <a:xfrm>
              <a:off x="7741440" y="436572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Jim Champio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8">
              <a:hlinkClick r:id="rId2"/>
            </p:cNvPr>
            <p:cNvSpPr/>
            <p:nvPr/>
          </p:nvSpPr>
          <p:spPr>
            <a:xfrm>
              <a:off x="7812000" y="4508640"/>
              <a:ext cx="72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39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erring gu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ats almost anyth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an hunt for fish such as herring at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inds worms, crustaceans and molluscs on the 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cavenges ref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lso found inland, particularly in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ometimes thought of as a pest in towns and 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">
            <a:hlinkClick r:id="rId3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>
            <a:hlinkClick r:id="rId4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48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mon star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46836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A predator of molluscs, worms and other star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e underside of its arms is covered with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suckers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t locates its prey using its sense of sm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ound around the coast of Wales, often in rock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8"/>
          <p:cNvGrpSpPr/>
          <p:nvPr/>
        </p:nvGrpSpPr>
        <p:grpSpPr>
          <a:xfrm>
            <a:off x="5219640" y="2349360"/>
            <a:ext cx="3648240" cy="2737080"/>
            <a:chOff x="5219640" y="2349360"/>
            <a:chExt cx="3648240" cy="2737080"/>
          </a:xfrm>
        </p:grpSpPr>
        <p:pic>
          <p:nvPicPr>
            <p:cNvPr id="257" name="Picture 15" descr="Starfish on Long Nose Spit"/>
            <p:cNvPicPr/>
            <p:nvPr/>
          </p:nvPicPr>
          <p:blipFill>
            <a:blip r:embed="rId1"/>
            <a:stretch/>
          </p:blipFill>
          <p:spPr>
            <a:xfrm>
              <a:off x="5219640" y="2349360"/>
              <a:ext cx="3648240" cy="27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16"/>
            <p:cNvSpPr/>
            <p:nvPr/>
          </p:nvSpPr>
          <p:spPr>
            <a:xfrm>
              <a:off x="8027640" y="4869000"/>
              <a:ext cx="802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vid Ansti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7"/>
            <p:cNvSpPr/>
            <p:nvPr/>
          </p:nvSpPr>
          <p:spPr>
            <a:xfrm>
              <a:off x="8101080" y="4869000"/>
              <a:ext cx="71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5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Wales</a:t>
            </a:r>
            <a:r>
              <a:rPr b="0" lang="ja-JP" sz="44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 S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900000" y="2492280"/>
            <a:ext cx="2160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sea around Wales is called t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rish Se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t is part of t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tlantic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219480" cy="3672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1"/>
          <p:cNvSpPr/>
          <p:nvPr/>
        </p:nvSpPr>
        <p:spPr>
          <a:xfrm>
            <a:off x="6372360" y="162864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rth Wales co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4"/>
          <p:cNvSpPr/>
          <p:nvPr/>
        </p:nvSpPr>
        <p:spPr>
          <a:xfrm flipH="1">
            <a:off x="5148000" y="1844640"/>
            <a:ext cx="1439640" cy="360360"/>
          </a:xfrm>
          <a:prstGeom prst="line">
            <a:avLst/>
          </a:prstGeom>
          <a:ln w="25560">
            <a:solidFill>
              <a:srgbClr val="99ff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61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468360" y="1639800"/>
            <a:ext cx="828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ow you have seen some of the variety of marine life around W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he variety is enormous: from tiny mussels and anemones to huge leatherback turtles and basking shar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Have you seen any of these animals bef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an you think of any other creatures not mentio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What Lives in Wales</a:t>
            </a:r>
            <a:r>
              <a:rPr b="0" lang="ja-JP" sz="44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 S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457200" y="2133720"/>
            <a:ext cx="82915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seas around Wales are rich in wild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different habitats like sandy shores, rocky shores, cliffs and reefs support different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following slides explore some of the amazing creatures foun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Bottlenose dolphin"/>
          <p:cNvPicPr/>
          <p:nvPr/>
        </p:nvPicPr>
        <p:blipFill>
          <a:blip r:embed="rId1"/>
          <a:stretch/>
        </p:blipFill>
        <p:spPr>
          <a:xfrm>
            <a:off x="5508720" y="2492280"/>
            <a:ext cx="3047760" cy="20304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8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ottlenose dolph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Grow up to 4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Intelligent, sociable and playful mam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ound in groups of 3 to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Biggest population is in Cardigan Bay (200 individu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eed on fish, shrimp and s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Hunt using echolocation (like son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8029440" y="429264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jeffk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>
            <a:hlinkClick r:id="rId2"/>
          </p:cNvPr>
          <p:cNvSpPr/>
          <p:nvPr/>
        </p:nvSpPr>
        <p:spPr>
          <a:xfrm>
            <a:off x="8101080" y="4292640"/>
            <a:ext cx="358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77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ittle 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is small seabird is found at only one site in W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t migrates to Africa each w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t returns to the same spot on Gronant beach to breed each 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ish for sand eels in shallow coastal w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Little Tern with chick at Gronant - John Power"/>
          <p:cNvPicPr/>
          <p:nvPr/>
        </p:nvPicPr>
        <p:blipFill>
          <a:blip r:embed="rId1"/>
          <a:stretch/>
        </p:blipFill>
        <p:spPr>
          <a:xfrm>
            <a:off x="5364000" y="2708280"/>
            <a:ext cx="3327480" cy="2219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7959240" y="4724280"/>
            <a:ext cx="71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John Pow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86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mon mus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These molluscs live in the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nter-tidal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When the tide is out you can find them on rocky sh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eed by filtering seawater and extracting tiny particles of f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Farmed along parts of the coast for human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>
            <a:hlinkClick r:id="rId3"/>
          </p:cNvPr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8029080" y="443700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alter Bax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>
            <a:hlinkClick r:id="rId4"/>
          </p:cNvPr>
          <p:cNvSpPr/>
          <p:nvPr/>
        </p:nvSpPr>
        <p:spPr>
          <a:xfrm>
            <a:off x="8101080" y="4437000"/>
            <a:ext cx="647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CornishMussels"/>
          <p:cNvPicPr/>
          <p:nvPr/>
        </p:nvPicPr>
        <p:blipFill>
          <a:blip r:embed="rId5"/>
          <a:stretch/>
        </p:blipFill>
        <p:spPr>
          <a:xfrm>
            <a:off x="5219640" y="2205000"/>
            <a:ext cx="35546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99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ornback 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Large flattened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Skeleton made from cartilage (like your nose and ears) instead of 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Its egg-cases are known as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mermaids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purses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You can find mermaids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purses washed up on be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8029080" y="443700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alter Bax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6" descr="9437409441_f7df8964b6"/>
          <p:cNvPicPr/>
          <p:nvPr/>
        </p:nvPicPr>
        <p:blipFill>
          <a:blip r:embed="rId3"/>
          <a:stretch/>
        </p:blipFill>
        <p:spPr>
          <a:xfrm>
            <a:off x="5580000" y="1700280"/>
            <a:ext cx="2890800" cy="21682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7"/>
          <p:cNvSpPr/>
          <p:nvPr/>
        </p:nvSpPr>
        <p:spPr>
          <a:xfrm>
            <a:off x="7668360" y="3645000"/>
            <a:ext cx="79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James Lyno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>
            <a:hlinkClick r:id="rId4"/>
          </p:cNvPr>
          <p:cNvSpPr/>
          <p:nvPr/>
        </p:nvSpPr>
        <p:spPr>
          <a:xfrm>
            <a:off x="7740720" y="364500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9" descr=""/>
          <p:cNvPicPr/>
          <p:nvPr/>
        </p:nvPicPr>
        <p:blipFill>
          <a:blip r:embed="rId5"/>
          <a:stretch/>
        </p:blipFill>
        <p:spPr>
          <a:xfrm>
            <a:off x="5724360" y="3933720"/>
            <a:ext cx="2664000" cy="1538280"/>
          </a:xfrm>
          <a:prstGeom prst="rect">
            <a:avLst/>
          </a:prstGeom>
          <a:ln w="0">
            <a:noFill/>
          </a:ln>
        </p:spPr>
      </p:pic>
      <p:sp>
        <p:nvSpPr>
          <p:cNvPr id="112" name="Line 24"/>
          <p:cNvSpPr/>
          <p:nvPr/>
        </p:nvSpPr>
        <p:spPr>
          <a:xfrm>
            <a:off x="4572000" y="3860640"/>
            <a:ext cx="1655640" cy="720720"/>
          </a:xfrm>
          <a:prstGeom prst="line">
            <a:avLst/>
          </a:prstGeom>
          <a:ln w="25560">
            <a:solidFill>
              <a:srgbClr val="99ff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14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rmo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arge long-necked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xcellent underwater swi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Hunts fish under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Often seen standing with its wings held out to 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Found around the Welsh coast and further i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>
            <a:hlinkClick r:id="rId3"/>
          </p:cNvPr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A cormorant (Phalacrocorax carbo) at Eyemouth harbour"/>
          <p:cNvPicPr/>
          <p:nvPr/>
        </p:nvPicPr>
        <p:blipFill>
          <a:blip r:embed="rId4"/>
          <a:stretch/>
        </p:blipFill>
        <p:spPr>
          <a:xfrm>
            <a:off x="5508720" y="2421000"/>
            <a:ext cx="3359160" cy="2266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8029080" y="443700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alter Bax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">
            <a:hlinkClick r:id="rId5"/>
          </p:cNvPr>
          <p:cNvSpPr/>
          <p:nvPr/>
        </p:nvSpPr>
        <p:spPr>
          <a:xfrm>
            <a:off x="8101080" y="4437000"/>
            <a:ext cx="647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27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ttle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4572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uttlefish are a kind of mollusc called a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ephalopod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Related to squid and octo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When threatened they release ink into the water to confuse predators so they can e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Active predators feeding on molluscs, young fish, and cr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3"/>
          <p:cNvGrpSpPr/>
          <p:nvPr/>
        </p:nvGrpSpPr>
        <p:grpSpPr>
          <a:xfrm>
            <a:off x="5508720" y="2276640"/>
            <a:ext cx="3047760" cy="2304720"/>
            <a:chOff x="5508720" y="2276640"/>
            <a:chExt cx="3047760" cy="2304720"/>
          </a:xfrm>
        </p:grpSpPr>
        <p:pic>
          <p:nvPicPr>
            <p:cNvPr id="136" name="Picture 19" descr="320px-Sepia_officinalis_%28aquarium%29"/>
            <p:cNvPicPr/>
            <p:nvPr/>
          </p:nvPicPr>
          <p:blipFill>
            <a:blip r:embed="rId3"/>
            <a:stretch/>
          </p:blipFill>
          <p:spPr>
            <a:xfrm>
              <a:off x="5508720" y="2276640"/>
              <a:ext cx="30477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7"/>
            <p:cNvSpPr/>
            <p:nvPr/>
          </p:nvSpPr>
          <p:spPr>
            <a:xfrm>
              <a:off x="6804000" y="4365720"/>
              <a:ext cx="174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© Hans Hillewaert / CC-BY-SA-3.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0">
              <a:hlinkClick r:id="rId4"/>
            </p:cNvPr>
            <p:cNvSpPr/>
            <p:nvPr/>
          </p:nvSpPr>
          <p:spPr>
            <a:xfrm>
              <a:off x="6877080" y="4365720"/>
              <a:ext cx="165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4:43:44Z</dcterms:created>
  <dc:creator>eli93093</dc:creator>
  <dc:description/>
  <dc:language>en-US</dc:language>
  <cp:lastModifiedBy>eli93093</cp:lastModifiedBy>
  <dcterms:modified xsi:type="dcterms:W3CDTF">2013-10-11T12:42:37Z</dcterms:modified>
  <cp:revision>35</cp:revision>
  <dc:subject/>
  <dc:title>Slide 1</dc:title>
</cp:coreProperties>
</file>