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D1D4-FA22-4923-A338-CA6B273D7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7C7A-C16C-4124-B243-E825A8E6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E457-3B32-4863-A4C5-B171E1D8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35A8-2334-4AC9-A5B5-AB3233E5D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6288-1300-42DD-9968-CC57CBB7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0278-1D03-4B49-A154-379572A0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21D4-8C1D-4170-849C-98C1FD6E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3027-32AC-43B0-88D2-DC65B29E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81E7-BFEF-4BC2-AF70-69B46D60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8528-9B5E-4362-AAD4-18BF57B6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E30D-DB81-4B12-9E40-87421D07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2CFF-98F8-4F94-B05B-9E432DBB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36A0-9BD1-42E0-8ECA-855F66AEA4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16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flickr.com/photos/saspotato/" TargetMode="External"/><Relationship Id="rId3" Type="http://schemas.openxmlformats.org/officeDocument/2006/relationships/hyperlink" Target="http://www.flickr.com/photos/saspotato/" TargetMode="External"/><Relationship Id="rId4" Type="http://schemas.openxmlformats.org/officeDocument/2006/relationships/hyperlink" Target="http://www.flickr.com/photos/saspotato/6829273296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flickr.com/photos/thirtysixmillion/7475983744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pbs.org/kqed/oceanadventures/educators/library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fotopedia.com/items/flickr-4189668033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flickr.com/photos/greennblue2000/4142265752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commons.wikimedia.org/wiki/File:Timor_Coral_Reef.jpg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fotopedia.com/items/flickr-5435112145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9/97/The_Earth_seen_from_Apollo_17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99"/>
                </a:solidFill>
                <a:latin typeface="Arial"/>
              </a:rPr>
              <a:t>Marine &amp; Coastal Wildlif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99"/>
                </a:solidFill>
                <a:latin typeface="Arial"/>
              </a:rPr>
              <a:t>Qui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44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DCC1"/>
          <p:cNvPicPr/>
          <p:nvPr/>
        </p:nvPicPr>
        <p:blipFill>
          <a:blip r:embed="rId1"/>
          <a:stretch/>
        </p:blipFill>
        <p:spPr>
          <a:xfrm>
            <a:off x="3203640" y="5589720"/>
            <a:ext cx="1366920" cy="474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bionet logo no text"/>
          <p:cNvPicPr/>
          <p:nvPr/>
        </p:nvPicPr>
        <p:blipFill>
          <a:blip r:embed="rId2"/>
          <a:stretch/>
        </p:blipFill>
        <p:spPr>
          <a:xfrm>
            <a:off x="4932360" y="5427720"/>
            <a:ext cx="144000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7" descr="Close up of dermochelys coriacea leatherback turtle copyright friendly photo"/>
          <p:cNvPicPr/>
          <p:nvPr/>
        </p:nvPicPr>
        <p:blipFill>
          <a:blip r:embed="rId1"/>
          <a:stretch/>
        </p:blipFill>
        <p:spPr>
          <a:xfrm>
            <a:off x="5724360" y="4076640"/>
            <a:ext cx="2087640" cy="1513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6" descr="sea, lion, seal, ecuador, island, pacific, ocean"/>
          <p:cNvPicPr/>
          <p:nvPr/>
        </p:nvPicPr>
        <p:blipFill>
          <a:blip r:embed="rId2"/>
          <a:stretch/>
        </p:blipFill>
        <p:spPr>
          <a:xfrm>
            <a:off x="1835280" y="4076640"/>
            <a:ext cx="2087280" cy="1517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3" descr="4416896747_180fefcc57_z"/>
          <p:cNvPicPr/>
          <p:nvPr/>
        </p:nvPicPr>
        <p:blipFill>
          <a:blip r:embed="rId3"/>
          <a:stretch/>
        </p:blipFill>
        <p:spPr>
          <a:xfrm>
            <a:off x="5724360" y="1916280"/>
            <a:ext cx="2089440" cy="1498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0" descr="1453329637_5cbf0b8530"/>
          <p:cNvPicPr/>
          <p:nvPr/>
        </p:nvPicPr>
        <p:blipFill>
          <a:blip r:embed="rId4"/>
          <a:stretch/>
        </p:blipFill>
        <p:spPr>
          <a:xfrm>
            <a:off x="1835280" y="1916280"/>
            <a:ext cx="2087280" cy="1533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9. Which of these species is not normally found in Welsh seas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44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5724360" y="3032280"/>
            <a:ext cx="20894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ob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a lions are found in most seas, apart from the northern Atlantic ocean. All the other species are found in Welsh s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5651640" y="5229360"/>
            <a:ext cx="22334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eatherback tur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1835280" y="3068640"/>
            <a:ext cx="20872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aho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1835280" y="5229360"/>
            <a:ext cx="20872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a 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3276720" y="1916280"/>
            <a:ext cx="6476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MT"/>
              </a:rPr>
              <a:t>Alex Griffioe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7164360" y="1916280"/>
            <a:ext cx="7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ffffff"/>
                </a:solidFill>
                <a:latin typeface="Arial"/>
              </a:rPr>
              <a:t>Alfiero Brisott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3348000" y="1989000"/>
            <a:ext cx="503280" cy="716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7236000" y="1989000"/>
            <a:ext cx="504720" cy="716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indefinite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4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indefinite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10. Which animal releases ink to defend itself against predat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59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ink confuses predators so the cuttlefish can swim away. Squid and octopus also do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4973760" cy="36118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9"/>
          <p:cNvSpPr/>
          <p:nvPr/>
        </p:nvSpPr>
        <p:spPr>
          <a:xfrm>
            <a:off x="2195640" y="3375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uttlef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5" descr="File:Cetorhinus maximus by greg skomal.JPG"/>
          <p:cNvPicPr/>
          <p:nvPr/>
        </p:nvPicPr>
        <p:blipFill>
          <a:blip r:embed="rId1"/>
          <a:stretch/>
        </p:blipFill>
        <p:spPr>
          <a:xfrm>
            <a:off x="2843280" y="1628640"/>
            <a:ext cx="3744720" cy="3942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11. What is the biggest fish in Welsh se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69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900000" y="58053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sking sharks can grow to 10m l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195640" y="328464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Basking sha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" descr=""/>
          <p:cNvPicPr/>
          <p:nvPr/>
        </p:nvPicPr>
        <p:blipFill>
          <a:blip r:embed="rId1"/>
          <a:stretch/>
        </p:blipFill>
        <p:spPr>
          <a:xfrm>
            <a:off x="3492360" y="2637000"/>
            <a:ext cx="2633760" cy="2501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12. Which bird does this colourful bill belong 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78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Puffin’s colourful beaks are brightest in the breeding season (spring &amp; summ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2268360" y="357336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uf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"/>
          <p:cNvSpPr/>
          <p:nvPr/>
        </p:nvSpPr>
        <p:spPr>
          <a:xfrm>
            <a:off x="5295240" y="4941720"/>
            <a:ext cx="88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ndreas Trep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435640" y="4941720"/>
            <a:ext cx="720720" cy="1429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835280" y="4076640"/>
            <a:ext cx="2095200" cy="1513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3984524861_76388b27f3"/>
          <p:cNvPicPr/>
          <p:nvPr/>
        </p:nvPicPr>
        <p:blipFill>
          <a:blip r:embed="rId2"/>
          <a:stretch/>
        </p:blipFill>
        <p:spPr>
          <a:xfrm>
            <a:off x="5724360" y="1916280"/>
            <a:ext cx="2098800" cy="1487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5" descr="File:Cetorhinus maximus by greg skomal.JPG"/>
          <p:cNvPicPr/>
          <p:nvPr/>
        </p:nvPicPr>
        <p:blipFill>
          <a:blip r:embed="rId3"/>
          <a:srcRect l="0" t="19635" r="0" b="11039"/>
          <a:stretch/>
        </p:blipFill>
        <p:spPr>
          <a:xfrm>
            <a:off x="5724360" y="4076640"/>
            <a:ext cx="2087640" cy="15242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Bottlenose dolphin"/>
          <p:cNvPicPr/>
          <p:nvPr/>
        </p:nvPicPr>
        <p:blipFill>
          <a:blip r:embed="rId4"/>
          <a:stretch/>
        </p:blipFill>
        <p:spPr>
          <a:xfrm>
            <a:off x="1835280" y="1916280"/>
            <a:ext cx="2089080" cy="15127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13. Which of these isn’t a mammal?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92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5724360" y="3032280"/>
            <a:ext cx="20894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900000" y="58053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basking shark is a type of fish. All the others are mamm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5651640" y="5229360"/>
            <a:ext cx="22334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asking sh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1835280" y="3068640"/>
            <a:ext cx="20872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olph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1835280" y="5229360"/>
            <a:ext cx="20872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3500280" y="1916280"/>
            <a:ext cx="406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jeffk4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7308720" y="1916280"/>
            <a:ext cx="471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ffffff"/>
                </a:solidFill>
                <a:latin typeface="Arial"/>
              </a:rPr>
              <a:t>oldbillu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7451640" y="1989000"/>
            <a:ext cx="25740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5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6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14. What are baby seal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06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900000" y="58053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by seals are called ‘pups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547640" y="1557360"/>
            <a:ext cx="6147000" cy="4103280"/>
            <a:chOff x="1547640" y="1557360"/>
            <a:chExt cx="6147000" cy="4103280"/>
          </a:xfrm>
        </p:grpSpPr>
        <p:pic>
          <p:nvPicPr>
            <p:cNvPr id="211" name="" descr="Grey seal pup, Donna Nook"/>
            <p:cNvPicPr/>
            <p:nvPr/>
          </p:nvPicPr>
          <p:blipFill>
            <a:blip r:embed="rId1"/>
            <a:stretch/>
          </p:blipFill>
          <p:spPr>
            <a:xfrm>
              <a:off x="1547640" y="1557360"/>
              <a:ext cx="6096240" cy="40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6878520" y="5445000"/>
              <a:ext cx="816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Julian Dows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48360" y="5445000"/>
              <a:ext cx="64800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15. Where does the little tern go in win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17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900000" y="58053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est Africa. Their journey is called a ‘migration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76892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34092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1. What gas does seaweed produ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6829273296_6c2e18b835_c"/>
          <p:cNvPicPr/>
          <p:nvPr/>
        </p:nvPicPr>
        <p:blipFill>
          <a:blip r:embed="rId1"/>
          <a:stretch/>
        </p:blipFill>
        <p:spPr>
          <a:xfrm>
            <a:off x="2340000" y="1844640"/>
            <a:ext cx="4740120" cy="355608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101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54" name="Freeform 99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00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2"/>
          <p:cNvSpPr/>
          <p:nvPr/>
        </p:nvSpPr>
        <p:spPr>
          <a:xfrm>
            <a:off x="2124000" y="306864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xy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3"/>
          <p:cNvSpPr/>
          <p:nvPr/>
        </p:nvSpPr>
        <p:spPr>
          <a:xfrm>
            <a:off x="6443640" y="5157720"/>
            <a:ext cx="64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saspota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4">
            <a:hlinkClick r:id="rId2"/>
          </p:cNvPr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5">
            <a:hlinkClick r:id="rId3"/>
          </p:cNvPr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6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Just like trees, seaweed releases oxygen into the atmosphere and absorbs carbon diox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">
            <a:hlinkClick r:id="rId4"/>
          </p:cNvPr>
          <p:cNvSpPr/>
          <p:nvPr/>
        </p:nvSpPr>
        <p:spPr>
          <a:xfrm>
            <a:off x="6516720" y="5157720"/>
            <a:ext cx="503280" cy="21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1" descr="7475983744_b137cb46cb_z"/>
          <p:cNvPicPr/>
          <p:nvPr/>
        </p:nvPicPr>
        <p:blipFill>
          <a:blip r:embed="rId1"/>
          <a:stretch/>
        </p:blipFill>
        <p:spPr>
          <a:xfrm>
            <a:off x="2050920" y="1557360"/>
            <a:ext cx="5400720" cy="40258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34092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2. What is a mermaid</a:t>
            </a:r>
            <a:r>
              <a:rPr b="0" lang="ja-JP" sz="40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s purse?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67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2124000" y="2852640"/>
            <a:ext cx="525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Eggcase of sharks, skates and r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Young sharks, skates and rays hatch from these eggcases which then wash up on the sh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6372360" y="530208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son Chamberl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">
            <a:hlinkClick r:id="rId2"/>
          </p:cNvPr>
          <p:cNvSpPr/>
          <p:nvPr/>
        </p:nvSpPr>
        <p:spPr>
          <a:xfrm>
            <a:off x="6443640" y="5300640"/>
            <a:ext cx="936720" cy="21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3" descr="polarbear-800"/>
          <p:cNvPicPr/>
          <p:nvPr/>
        </p:nvPicPr>
        <p:blipFill>
          <a:blip r:embed="rId1"/>
          <a:stretch/>
        </p:blipFill>
        <p:spPr>
          <a:xfrm>
            <a:off x="2124000" y="1700280"/>
            <a:ext cx="5027760" cy="37702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3. At which pole does the polar bear liv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78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North p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Polar bears only live in the northern hemisphere, including Canada, Norway, Russia and Greenland and aren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t found at the south po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4">
            <a:hlinkClick r:id="rId2"/>
          </p:cNvPr>
          <p:cNvSpPr/>
          <p:nvPr/>
        </p:nvSpPr>
        <p:spPr>
          <a:xfrm>
            <a:off x="2195640" y="4941720"/>
            <a:ext cx="122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3" descr="Dive_Site_-_Seychelles"/>
          <p:cNvPicPr/>
          <p:nvPr/>
        </p:nvPicPr>
        <p:blipFill>
          <a:blip r:embed="rId1"/>
          <a:stretch/>
        </p:blipFill>
        <p:spPr>
          <a:xfrm>
            <a:off x="1908000" y="1844640"/>
            <a:ext cx="5534280" cy="36021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4. What is a group of fish called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88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ho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 group of fish is known as a shoal or school. The biggest shoals can contain millions of f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6588000" y="5229360"/>
            <a:ext cx="8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Andre Pinch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">
            <a:hlinkClick r:id="rId2"/>
          </p:cNvPr>
          <p:cNvSpPr/>
          <p:nvPr/>
        </p:nvSpPr>
        <p:spPr>
          <a:xfrm>
            <a:off x="6659640" y="5300640"/>
            <a:ext cx="649080" cy="14436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3" descr="4142265752_71881a417f_z"/>
          <p:cNvPicPr/>
          <p:nvPr/>
        </p:nvPicPr>
        <p:blipFill>
          <a:blip r:embed="rId1"/>
          <a:stretch/>
        </p:blipFill>
        <p:spPr>
          <a:xfrm>
            <a:off x="2195640" y="1773360"/>
            <a:ext cx="5159160" cy="36925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5. Which is the biggest sea bird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99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lbatro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biggest of all is the wandering albatross which has a wingspan of up to 3.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588000" y="5229360"/>
            <a:ext cx="8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AntarcticBo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">
            <a:hlinkClick r:id="rId2"/>
          </p:cNvPr>
          <p:cNvSpPr/>
          <p:nvPr/>
        </p:nvSpPr>
        <p:spPr>
          <a:xfrm>
            <a:off x="6659640" y="5229360"/>
            <a:ext cx="649080" cy="2156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2" descr="Coral reef - Nick Hobgood"/>
          <p:cNvPicPr/>
          <p:nvPr/>
        </p:nvPicPr>
        <p:blipFill>
          <a:blip r:embed="rId1"/>
          <a:stretch/>
        </p:blipFill>
        <p:spPr>
          <a:xfrm>
            <a:off x="2987640" y="1484280"/>
            <a:ext cx="3227400" cy="41115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6. Is coral an animal or plant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10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n ani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Each coral 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plant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is actually made from thousands of tiny animals that live together in a colo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5364000" y="5373720"/>
            <a:ext cx="8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Nick Hobgoo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">
            <a:hlinkClick r:id="rId2"/>
          </p:cNvPr>
          <p:cNvSpPr/>
          <p:nvPr/>
        </p:nvSpPr>
        <p:spPr>
          <a:xfrm>
            <a:off x="5435640" y="5373720"/>
            <a:ext cx="720720" cy="21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3" descr="Sea_Turtle_Honokahau_Kona_Hawaii"/>
          <p:cNvPicPr/>
          <p:nvPr/>
        </p:nvPicPr>
        <p:blipFill>
          <a:blip r:embed="rId1"/>
          <a:stretch/>
        </p:blipFill>
        <p:spPr>
          <a:xfrm>
            <a:off x="2124000" y="1628640"/>
            <a:ext cx="5207040" cy="3903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7. What does a sea turtle eat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21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Jellyf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a turtles feed on jellyfish. Sadly many turtles die each year after eating plastic bags floating in the sea which they mistake for jellyf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6732720" y="5300640"/>
            <a:ext cx="57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Ste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">
            <a:hlinkClick r:id="rId2"/>
          </p:cNvPr>
          <p:cNvSpPr/>
          <p:nvPr/>
        </p:nvSpPr>
        <p:spPr>
          <a:xfrm>
            <a:off x="6804000" y="5300640"/>
            <a:ext cx="432000" cy="2160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3" descr="File:The Earth seen from Apollo 1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844640"/>
            <a:ext cx="3573360" cy="35733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8. How much of the Earth is covered by water 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32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2124000" y="3213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7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70% of the Earth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s surface is covered by water. Almost all of that (97%) is seawat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3:52:33Z</dcterms:created>
  <dc:creator>eli93093</dc:creator>
  <dc:description/>
  <dc:language>en-US</dc:language>
  <cp:lastModifiedBy>eli93093</cp:lastModifiedBy>
  <dcterms:modified xsi:type="dcterms:W3CDTF">2013-10-11T12:51:36Z</dcterms:modified>
  <cp:revision>21</cp:revision>
  <dc:subject/>
  <dc:title>Marine &amp; Coastal Biodiversity</dc:title>
</cp:coreProperties>
</file>