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DBA0-57E2-4A2E-BDAA-D88290FCB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F50E-64A3-40CE-A681-3FFE730B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C45C-2226-42A4-9029-E6DA4BBA0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8192-D0F4-47C0-9AC9-7208869E8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21F0-3C25-4A1E-B1C0-E6F8E7E0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84EA-F20A-4D70-8D88-1153AAF3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DEAB-38B3-4B3A-8D44-816D1298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59AB-AA6A-4EB9-8120-7620568B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17A9-86C6-4BE0-8DA4-D720F663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D8D0-9325-4C42-BE71-119C8525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F77C-DE15-487A-A614-C9CC365F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9BEB-4941-4E2F-9718-2D6700F5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9B28-63F9-472A-92B4-87B1D582D3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www.flickr.com/photos/foxypar4/2334761926/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file://upload.wikimedia.org/wikipedia/commons/2/2f/Medusa-acquario_di_Genova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en.wikipedia.org/wiki/File:Medusa-acquario_di_Genova.jpg" TargetMode="Externa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file://upload.wikimedia.org/wikipedia/commons/0/0b/Cetorhinus_maximus_by_greg_skomal.JP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file://upload.wikimedia.org/wikipedia/commons/8/8c/Puffin_Latrabjarg_Iceland.jpg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en.wikipedia.org/wiki/File:Puffin_Latrabjarg_Iceland.jpg" TargetMode="Externa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http://commons.wikimedia.org/w/index.php?title=User:AVampireTear&amp;action=edit&amp;redlink=1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file://upload.wikimedia.org/wikipedia/commons/a/a9/Actinia_equina_(Boulogne-sur-Mer).jpg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commons.wikimedia.org/wiki/File:Actinia_equina_(Boulogne-sur-Mer).jpg" TargetMode="Externa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flickr.com/photos/oldbilluk/3984524861/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geograph.org.uk/photo/229587" TargetMode="External"/><Relationship Id="rId3" Type="http://schemas.openxmlformats.org/officeDocument/2006/relationships/hyperlink" Target="http://commons.wikimedia.org/w/index.php?title=User:AVampireTear&amp;action=edit&amp;redlink=1" TargetMode="External"/><Relationship Id="rId4" Type="http://schemas.openxmlformats.org/officeDocument/2006/relationships/hyperlink" Target="http://commons.wikimedia.org/w/index.php?title=User:AVampireTear&amp;action=edit&amp;redlink=1" TargetMode="Externa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flickr.com/photos/jeffk42/2842809568/sizes/o/in/photostream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http://commons.wikimedia.org/w/index.php?title=User:AVampireTear&amp;action=edit&amp;redlink=1" TargetMode="External"/><Relationship Id="rId4" Type="http://schemas.openxmlformats.org/officeDocument/2006/relationships/hyperlink" Target="http://www.geograph.org.uk/photo/1002137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flickr.com/photos/jlynott/9437409441/" TargetMode="External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http://commons.wikimedia.org/w/index.php?title=User:AVampireTear&amp;action=edit&amp;redlink=1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www.geograph.org.uk/photo/1002137" TargetMode="Externa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en.wikipedia.org/wiki/File:Sepia_officinalis_(aquarium).jpg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5400" spc="-1" strike="noStrike">
                <a:solidFill>
                  <a:srgbClr val="333399"/>
                </a:solidFill>
                <a:latin typeface="Arial"/>
              </a:rPr>
              <a:t>Bywyd Gwyllt </a:t>
            </a:r>
            <a:br>
              <a:rPr sz="5400"/>
            </a:br>
            <a:r>
              <a:rPr b="1" lang="cy-GB" sz="5400" spc="-1" strike="noStrike">
                <a:solidFill>
                  <a:srgbClr val="333399"/>
                </a:solidFill>
                <a:latin typeface="Arial"/>
              </a:rPr>
              <a:t>Môr ac Arfordir</a:t>
            </a:r>
            <a:br>
              <a:rPr sz="5400"/>
            </a:br>
            <a:r>
              <a:rPr b="1" lang="cy-GB" sz="8000" spc="-1" strike="noStrike">
                <a:solidFill>
                  <a:srgbClr val="333399"/>
                </a:solidFill>
                <a:latin typeface="Arial"/>
              </a:rPr>
              <a:t>Cymr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43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DCC1"/>
          <p:cNvPicPr/>
          <p:nvPr/>
        </p:nvPicPr>
        <p:blipFill>
          <a:blip r:embed="rId1"/>
          <a:stretch/>
        </p:blipFill>
        <p:spPr>
          <a:xfrm>
            <a:off x="3203640" y="5589720"/>
            <a:ext cx="1366920" cy="474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bionet logo no text"/>
          <p:cNvPicPr/>
          <p:nvPr/>
        </p:nvPicPr>
        <p:blipFill>
          <a:blip r:embed="rId2"/>
          <a:stretch/>
        </p:blipFill>
        <p:spPr>
          <a:xfrm>
            <a:off x="4932360" y="5427720"/>
            <a:ext cx="144000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40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</a:rPr>
              <a:t>Cranc G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468360" y="1628640"/>
            <a:ext cx="5040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 crancod yn grameno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n nhw’n gyffredin iawn ar arfordir Cym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Fe allwch chi ddod o hyd iddyn nhw mewn pyllau glan môr ac ar draethau tyw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 ganddyn nhw gragen ga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 ganddyn nhw binsiyrn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n nhw’n bwyta molysgiaid, pryfaid genwair a chramenogion era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1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20"/>
          <p:cNvGrpSpPr/>
          <p:nvPr/>
        </p:nvGrpSpPr>
        <p:grpSpPr>
          <a:xfrm>
            <a:off x="5651640" y="2349360"/>
            <a:ext cx="3106440" cy="2087640"/>
            <a:chOff x="5651640" y="2349360"/>
            <a:chExt cx="3106440" cy="2087640"/>
          </a:xfrm>
        </p:grpSpPr>
        <p:pic>
          <p:nvPicPr>
            <p:cNvPr id="149" name="Picture 15" descr="2334761926_b9d04b1a4f"/>
            <p:cNvPicPr/>
            <p:nvPr/>
          </p:nvPicPr>
          <p:blipFill>
            <a:blip r:embed="rId3"/>
            <a:stretch/>
          </p:blipFill>
          <p:spPr>
            <a:xfrm>
              <a:off x="5651640" y="2349360"/>
              <a:ext cx="3106440" cy="20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18"/>
            <p:cNvSpPr/>
            <p:nvPr/>
          </p:nvSpPr>
          <p:spPr>
            <a:xfrm>
              <a:off x="7958160" y="4221000"/>
              <a:ext cx="776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</a:rPr>
                <a:t>John Hasla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9">
              <a:hlinkClick r:id="rId4"/>
            </p:cNvPr>
            <p:cNvSpPr/>
            <p:nvPr/>
          </p:nvSpPr>
          <p:spPr>
            <a:xfrm>
              <a:off x="8028000" y="4221000"/>
              <a:ext cx="647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53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</a:rPr>
              <a:t>Slefren Fô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 sawl math o slefrenni môr ym moroedd Cym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Ffynhonnell fwyd bwysig i sawl anifail mô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n nhw’n defnyddio tentaclau i ddal ysglyfaeth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 gan rai bigiadau po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Fe allwch chi ddod o hyd iddyn nhw ar draeth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19"/>
          <p:cNvGrpSpPr/>
          <p:nvPr/>
        </p:nvGrpSpPr>
        <p:grpSpPr>
          <a:xfrm>
            <a:off x="5580000" y="2349360"/>
            <a:ext cx="3247920" cy="2673360"/>
            <a:chOff x="5580000" y="2349360"/>
            <a:chExt cx="3247920" cy="2673360"/>
          </a:xfrm>
        </p:grpSpPr>
        <p:pic>
          <p:nvPicPr>
            <p:cNvPr id="162" name="Picture 16" descr="File:Medusa-acquario di Genova.jpg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5580000" y="2349360"/>
              <a:ext cx="3227400" cy="26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17"/>
            <p:cNvSpPr/>
            <p:nvPr/>
          </p:nvSpPr>
          <p:spPr>
            <a:xfrm>
              <a:off x="7813440" y="4797360"/>
              <a:ext cx="1014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</a:rPr>
                <a:t>Francesco Crippa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8">
              <a:hlinkClick r:id="rId5"/>
            </p:cNvPr>
            <p:cNvSpPr/>
            <p:nvPr/>
          </p:nvSpPr>
          <p:spPr>
            <a:xfrm>
              <a:off x="7885080" y="4797360"/>
              <a:ext cx="863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66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</a:rPr>
              <a:t>Heulfor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Y pysgodyn mwyaf yng Nghym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Gallu tyfu hyd at 10 metr o hy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Yn hidlo dŵr er mwyn bwyta planc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Yn yr haf maen nhw’n symud o amgylch Cym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n nhw fel arfer yn teithio ar eu pen eu hun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Dydyn nhw ddim yn beryglus i bob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5" descr="File:Cetorhinus maximus by greg skomal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1916280"/>
            <a:ext cx="343548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76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</a:rPr>
              <a:t>Aderyn y Pâ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Dyma adar môr bach sydd efo traed oren a phig lliw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Yn yr haf maen nhw’n bridio ger yr arfordir, gan gynnwys ar Ynys Mô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n nhw’n dodwy un wy mewn tw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n nhw’n treulio’r gaeaf allan ar y môr ag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n nhw’n bwyta pysgod b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"/>
          <p:cNvGrpSpPr/>
          <p:nvPr/>
        </p:nvGrpSpPr>
        <p:grpSpPr>
          <a:xfrm>
            <a:off x="5364000" y="2268360"/>
            <a:ext cx="3443400" cy="2816280"/>
            <a:chOff x="5364000" y="2268360"/>
            <a:chExt cx="3443400" cy="2816280"/>
          </a:xfrm>
        </p:grpSpPr>
        <p:pic>
          <p:nvPicPr>
            <p:cNvPr id="185" name="Picture 13" descr="File:Puffin Latrabjarg Iceland.jpg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5364000" y="2268360"/>
              <a:ext cx="3443400" cy="28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 Box 14"/>
            <p:cNvSpPr/>
            <p:nvPr/>
          </p:nvSpPr>
          <p:spPr>
            <a:xfrm>
              <a:off x="8177400" y="4869000"/>
              <a:ext cx="61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</a:rPr>
                <a:t>Boawor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5">
              <a:hlinkClick r:id="rId5"/>
            </p:cNvPr>
            <p:cNvSpPr/>
            <p:nvPr/>
          </p:nvSpPr>
          <p:spPr>
            <a:xfrm>
              <a:off x="8172360" y="4869000"/>
              <a:ext cx="57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89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</a:rPr>
              <a:t>Llamhidydd yr Harbw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 llamhidyddion yn perthyn i ddolffini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Fe allwch chi eu gweld oddi ar arfordiroedd Cym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Yr adeg orau i’w gweld ydi rhwng mis Awst a mis Tachwe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n nhw’n bwyta pysgod e.e. penwaig a mecry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2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3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5">
            <a:hlinkClick r:id="rId3"/>
          </p:cNvPr>
          <p:cNvSpPr/>
          <p:nvPr/>
        </p:nvSpPr>
        <p:spPr>
          <a:xfrm>
            <a:off x="0" y="32457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8"/>
          <p:cNvGrpSpPr/>
          <p:nvPr/>
        </p:nvGrpSpPr>
        <p:grpSpPr>
          <a:xfrm>
            <a:off x="5435640" y="2133720"/>
            <a:ext cx="3344760" cy="2734920"/>
            <a:chOff x="5435640" y="2133720"/>
            <a:chExt cx="3344760" cy="2734920"/>
          </a:xfrm>
        </p:grpSpPr>
        <p:pic>
          <p:nvPicPr>
            <p:cNvPr id="199" name="Picture 16" descr="Porpoise - Allan Brandon"/>
            <p:cNvPicPr/>
            <p:nvPr/>
          </p:nvPicPr>
          <p:blipFill>
            <a:blip r:embed="rId4"/>
            <a:stretch/>
          </p:blipFill>
          <p:spPr>
            <a:xfrm>
              <a:off x="5435640" y="2133720"/>
              <a:ext cx="3311640" cy="27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17"/>
            <p:cNvSpPr/>
            <p:nvPr/>
          </p:nvSpPr>
          <p:spPr>
            <a:xfrm>
              <a:off x="7959600" y="4653000"/>
              <a:ext cx="82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</a:rPr>
                <a:t>Allan Brand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02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</a:rPr>
              <a:t>Môr-Grwban Lledraid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Dyma’r môr-grwban mwyaf yn y by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n nhw’n bwyta slefrenni mô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n nhw’n dod i foroedd Cymru yn yr haf i chwilio am fwy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n nhw’n bridio ar draethau trofannol e.e. yn y Carib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n nhw’n anifeilaidd prin ia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6" descr="Close up of dermochelys coriacea leatherback turtle"/>
          <p:cNvPicPr/>
          <p:nvPr/>
        </p:nvPicPr>
        <p:blipFill>
          <a:blip r:embed="rId3"/>
          <a:stretch/>
        </p:blipFill>
        <p:spPr>
          <a:xfrm>
            <a:off x="5219640" y="2421000"/>
            <a:ext cx="352116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12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</a:rPr>
              <a:t>Pysgod yr Anemon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Yn perthyn i slefrenni mô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 gan eu tentaclau bigau pigog i ddal creaduriaid bach fel berd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Pan mae’r môr ar drai mae’r rhain yn edrych fel darnau bach o jeli (maen nhw’n cuddio eu tentacl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Gallwch ddod o hyd iddyn nhw mewn pyllau glan mô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6"/>
          <p:cNvGrpSpPr/>
          <p:nvPr/>
        </p:nvGrpSpPr>
        <p:grpSpPr>
          <a:xfrm>
            <a:off x="5796000" y="2398680"/>
            <a:ext cx="3097440" cy="2335320"/>
            <a:chOff x="5796000" y="2398680"/>
            <a:chExt cx="3097440" cy="2335320"/>
          </a:xfrm>
        </p:grpSpPr>
        <p:pic>
          <p:nvPicPr>
            <p:cNvPr id="221" name="Picture 13" descr="File:Actinia equina (Boulogne-sur-Mer).jpg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5796000" y="2398680"/>
              <a:ext cx="3073320" cy="23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14"/>
            <p:cNvSpPr/>
            <p:nvPr/>
          </p:nvSpPr>
          <p:spPr>
            <a:xfrm>
              <a:off x="7081920" y="4365720"/>
              <a:ext cx="181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</a:rPr>
                <a:t>© Hans Hillewaert / CC-BY-SA-3.0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5">
              <a:hlinkClick r:id="rId5"/>
            </p:cNvPr>
            <p:cNvSpPr/>
            <p:nvPr/>
          </p:nvSpPr>
          <p:spPr>
            <a:xfrm>
              <a:off x="7164360" y="4508640"/>
              <a:ext cx="165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2" descr="3984524861_76388b27f3"/>
          <p:cNvPicPr/>
          <p:nvPr/>
        </p:nvPicPr>
        <p:blipFill>
          <a:blip r:embed="rId1"/>
          <a:stretch/>
        </p:blipFill>
        <p:spPr>
          <a:xfrm>
            <a:off x="5292720" y="2492280"/>
            <a:ext cx="3538440" cy="250524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26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</a:rPr>
              <a:t>Morloi Llwy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 40% o forloi llwyd y byd i’w canfod ym Mhryd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’r clwstwr mwyaf ar yr ynysoedd oddi ar arfordir Sir Benf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’r morloi yn rhoi genedigaeth yn ystod yr hydref mewn cildraethau anghysbell lle cân nhw lony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Lloi bach ydi enw babis morl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8269200" y="4797360"/>
            <a:ext cx="54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oldbill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3">
            <a:hlinkClick r:id="rId2"/>
          </p:cNvPr>
          <p:cNvSpPr/>
          <p:nvPr/>
        </p:nvSpPr>
        <p:spPr>
          <a:xfrm>
            <a:off x="8317080" y="4797360"/>
            <a:ext cx="43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19"/>
          <p:cNvGrpSpPr/>
          <p:nvPr/>
        </p:nvGrpSpPr>
        <p:grpSpPr>
          <a:xfrm>
            <a:off x="5435640" y="2276640"/>
            <a:ext cx="3216240" cy="2457360"/>
            <a:chOff x="5435640" y="2276640"/>
            <a:chExt cx="3216240" cy="2457360"/>
          </a:xfrm>
        </p:grpSpPr>
        <p:pic>
          <p:nvPicPr>
            <p:cNvPr id="235" name="Picture 16" descr="Herring gull at Kynance Cove"/>
            <p:cNvPicPr/>
            <p:nvPr/>
          </p:nvPicPr>
          <p:blipFill>
            <a:blip r:embed="rId1"/>
            <a:stretch/>
          </p:blipFill>
          <p:spPr>
            <a:xfrm>
              <a:off x="5435640" y="2276640"/>
              <a:ext cx="3216240" cy="24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17"/>
            <p:cNvSpPr/>
            <p:nvPr/>
          </p:nvSpPr>
          <p:spPr>
            <a:xfrm>
              <a:off x="7741440" y="4365720"/>
              <a:ext cx="8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</a:rPr>
                <a:t>Jim Champion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8">
              <a:hlinkClick r:id="rId2"/>
            </p:cNvPr>
            <p:cNvSpPr/>
            <p:nvPr/>
          </p:nvSpPr>
          <p:spPr>
            <a:xfrm>
              <a:off x="7812000" y="4508640"/>
              <a:ext cx="720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39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</a:rPr>
              <a:t>Gwylan y Penwa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Yn bwyta bron pob dim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Yn hela pysgod fel penwa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Yn bwyta pryfaid genwair, cramenogion a molysgi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Yn chwilota am fwyd mewn biniau sbw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Fe allwch chi eu gweld yng nghefn  gwlad, yn arbennig yn y gae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 rhai pobl yn meddwl eu bod nhw’n bla yn y tref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9">
            <a:hlinkClick r:id="rId3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>
            <a:hlinkClick r:id="rId4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48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</a:rPr>
              <a:t>Y Seren Fô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Bwyta molysgiaid, pryfaid genwair a sêr môr era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 ochr isaf ei breichiau wedi ei orchuddio gyda ‘sugnwyr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’n canfod ei ysglyfaeth yn defnyddio ei synnwyr arog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Fe allwch chi ddod o hyd iddyn nhw ar arfordir Cymru, yn aml iawn mewn pyllau glan mô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18"/>
          <p:cNvGrpSpPr/>
          <p:nvPr/>
        </p:nvGrpSpPr>
        <p:grpSpPr>
          <a:xfrm>
            <a:off x="5219640" y="2349360"/>
            <a:ext cx="3648240" cy="2737080"/>
            <a:chOff x="5219640" y="2349360"/>
            <a:chExt cx="3648240" cy="2737080"/>
          </a:xfrm>
        </p:grpSpPr>
        <p:pic>
          <p:nvPicPr>
            <p:cNvPr id="257" name="Picture 15" descr="Starfish on Long Nose Spit"/>
            <p:cNvPicPr/>
            <p:nvPr/>
          </p:nvPicPr>
          <p:blipFill>
            <a:blip r:embed="rId1"/>
            <a:stretch/>
          </p:blipFill>
          <p:spPr>
            <a:xfrm>
              <a:off x="5219640" y="2349360"/>
              <a:ext cx="3648240" cy="273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Text Box 16"/>
            <p:cNvSpPr/>
            <p:nvPr/>
          </p:nvSpPr>
          <p:spPr>
            <a:xfrm>
              <a:off x="8027640" y="4869000"/>
              <a:ext cx="802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</a:rPr>
                <a:t>David Anstis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7"/>
            <p:cNvSpPr/>
            <p:nvPr/>
          </p:nvSpPr>
          <p:spPr>
            <a:xfrm>
              <a:off x="8101080" y="4869000"/>
              <a:ext cx="718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50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Moroedd Cym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900000" y="2492280"/>
            <a:ext cx="216072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333399"/>
                </a:solidFill>
                <a:latin typeface="Arial"/>
              </a:rPr>
              <a:t>Enw’r môr o amgylch Cymru ydi </a:t>
            </a:r>
            <a:r>
              <a:rPr b="1" lang="cy-GB" sz="2000" spc="-1" strike="noStrike">
                <a:solidFill>
                  <a:srgbClr val="333399"/>
                </a:solidFill>
                <a:latin typeface="Arial"/>
              </a:rPr>
              <a:t>Môr Iwerdd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333399"/>
                </a:solidFill>
                <a:latin typeface="Arial"/>
              </a:rPr>
              <a:t>Mae’r môr yma’n rhan o </a:t>
            </a:r>
            <a:r>
              <a:rPr b="1" lang="cy-GB" sz="2000" spc="-1" strike="noStrike">
                <a:solidFill>
                  <a:srgbClr val="333399"/>
                </a:solidFill>
                <a:latin typeface="Arial"/>
              </a:rPr>
              <a:t>Gefnfor yr Iwery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" descr=""/>
          <p:cNvPicPr/>
          <p:nvPr/>
        </p:nvPicPr>
        <p:blipFill>
          <a:blip r:embed="rId1"/>
          <a:stretch/>
        </p:blipFill>
        <p:spPr>
          <a:xfrm>
            <a:off x="2916360" y="2060640"/>
            <a:ext cx="3219480" cy="3672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1"/>
          <p:cNvSpPr/>
          <p:nvPr/>
        </p:nvSpPr>
        <p:spPr>
          <a:xfrm>
            <a:off x="6372360" y="162864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333399"/>
                </a:solidFill>
                <a:latin typeface="Arial"/>
              </a:rPr>
              <a:t>Arfordir gogledd Cym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4"/>
          <p:cNvSpPr/>
          <p:nvPr/>
        </p:nvSpPr>
        <p:spPr>
          <a:xfrm flipH="1">
            <a:off x="5148000" y="1844640"/>
            <a:ext cx="1439640" cy="360360"/>
          </a:xfrm>
          <a:prstGeom prst="line">
            <a:avLst/>
          </a:prstGeom>
          <a:ln w="25560">
            <a:solidFill>
              <a:srgbClr val="99ff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61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Crynod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3"/>
          <p:cNvSpPr/>
          <p:nvPr/>
        </p:nvSpPr>
        <p:spPr>
          <a:xfrm>
            <a:off x="468360" y="1639800"/>
            <a:ext cx="8280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Rydych chi bellach wedi gweld yr amrywiaeth o fywyd gwyllt sydd i’w ganfod ym moroedd Cym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 yna filoedd ar filoedd o rywogaethau: o gregyn gleision bach i grwbanod lledraidd mawr a heulforgw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2400" spc="-1" strike="noStrike">
                <a:solidFill>
                  <a:srgbClr val="333399"/>
                </a:solidFill>
                <a:latin typeface="Arial"/>
              </a:rPr>
              <a:t>Ydach chi wedi gweld yr anifeiliaid hyn o’r bla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2400" spc="-1" strike="noStrike">
                <a:solidFill>
                  <a:srgbClr val="333399"/>
                </a:solidFill>
                <a:latin typeface="Arial"/>
              </a:rPr>
              <a:t>Fedrwch chi feddwl am unrhyw greadur arall sydd ddim wedi ei enwi yn y cyflwyniad ym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60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</a:rPr>
              <a:t>Beth sy’n byw ym moroedd Cymr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457200" y="2133720"/>
            <a:ext cx="829152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</a:rPr>
              <a:t>Mae’r moroedd o amgylch Cymru yn llawn bywyd gwyl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</a:rPr>
              <a:t>Mae’r cynefinoedd gwahanol, fel traethau, clogwyni a riffiau yn gartref i wahanol rywogaeth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</a:rPr>
              <a:t>Mae’r sleidiau nesaf yn edrych ar rai o’r creaduriaid rhyfeddol y gallwch chi ddod o hyd iddyn nh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1" descr="Bottlenose dolphin"/>
          <p:cNvPicPr/>
          <p:nvPr/>
        </p:nvPicPr>
        <p:blipFill>
          <a:blip r:embed="rId1"/>
          <a:stretch/>
        </p:blipFill>
        <p:spPr>
          <a:xfrm>
            <a:off x="5508720" y="2492280"/>
            <a:ext cx="3047760" cy="203040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68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</a:rPr>
              <a:t>Dolffin Trwynbw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Gallu tyfu hyd at 4 metr o hy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maliaid clyfar, cymdeithasol a chwar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Byw mewn grwpiau o 3 i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Y boblogaeth fwyaf ohonyn nhw ym Mae Ceredigion (2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Bwyta pysgod, berdys a môr-lewy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Hela yn defnyddio ‘ecoleoli’ (tebyg i son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8029440" y="4292640"/>
            <a:ext cx="48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jeffk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2">
            <a:hlinkClick r:id="rId2"/>
          </p:cNvPr>
          <p:cNvSpPr/>
          <p:nvPr/>
        </p:nvSpPr>
        <p:spPr>
          <a:xfrm>
            <a:off x="8101080" y="4292640"/>
            <a:ext cx="358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77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</a:rPr>
              <a:t>Y Fôr-wennol F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</a:rPr>
              <a:t>Aderyn môr bach sydd i’w weld mewn un lle yng Nghym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</a:rPr>
              <a:t>Yn mudo i Affrica ar gyfer y gae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</a:rPr>
              <a:t>Yn dychwelyd i’r un lle ar draeth Gronant pob blwyddyn i fri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</a:rPr>
              <a:t>Yn hela llymrïaid mewn dyfroedd 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Little Tern with chick at Gronant - John Power"/>
          <p:cNvPicPr/>
          <p:nvPr/>
        </p:nvPicPr>
        <p:blipFill>
          <a:blip r:embed="rId1"/>
          <a:stretch/>
        </p:blipFill>
        <p:spPr>
          <a:xfrm>
            <a:off x="5364000" y="2708280"/>
            <a:ext cx="3327480" cy="22194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7959240" y="4724280"/>
            <a:ext cx="71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John Pow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86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</a:rPr>
              <a:t>Cregyn Gle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 molysgiaid yn byw yn yr ardal ‘rynglanw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Pan mae’r môr ar drai fe allwch chi eu gweld ar y glannau creigi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n nhw’n bwyta drwy hidlo dŵr môr a thynnu gronynnau o fwyd o’r dŵ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 pobl yn ffermio cregyn gleision ar gyfer eu bwy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1">
            <a:hlinkClick r:id="rId3"/>
          </p:cNvPr>
          <p:cNvSpPr/>
          <p:nvPr/>
        </p:nvSpPr>
        <p:spPr>
          <a:xfrm>
            <a:off x="0" y="32457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8029080" y="443700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Walter Bax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>
            <a:hlinkClick r:id="rId4"/>
          </p:cNvPr>
          <p:cNvSpPr/>
          <p:nvPr/>
        </p:nvSpPr>
        <p:spPr>
          <a:xfrm>
            <a:off x="8101080" y="4437000"/>
            <a:ext cx="647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6" descr="CornishMussels"/>
          <p:cNvPicPr/>
          <p:nvPr/>
        </p:nvPicPr>
        <p:blipFill>
          <a:blip r:embed="rId5"/>
          <a:stretch/>
        </p:blipFill>
        <p:spPr>
          <a:xfrm>
            <a:off x="5219640" y="2205000"/>
            <a:ext cx="35546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99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</a:rPr>
              <a:t>Morgath Big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Pysgodyn mawr ff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 eu sgerbwd wedi ei wneud o gartilag (fel eich trwyn a’ch clustiau) ac nid asgwr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Enw casys ei wyau ydi ‘pyrsiau y fôr-forwyn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Fe allwch chi ddod o hyd i byrsiau y fôr-forwyn ar draeth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8029080" y="443700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Walter Bax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6" descr="9437409441_f7df8964b6"/>
          <p:cNvPicPr/>
          <p:nvPr/>
        </p:nvPicPr>
        <p:blipFill>
          <a:blip r:embed="rId3"/>
          <a:stretch/>
        </p:blipFill>
        <p:spPr>
          <a:xfrm>
            <a:off x="5580000" y="1700280"/>
            <a:ext cx="2890800" cy="21682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7"/>
          <p:cNvSpPr/>
          <p:nvPr/>
        </p:nvSpPr>
        <p:spPr>
          <a:xfrm>
            <a:off x="7668360" y="3645000"/>
            <a:ext cx="79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James Lyno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8">
            <a:hlinkClick r:id="rId4"/>
          </p:cNvPr>
          <p:cNvSpPr/>
          <p:nvPr/>
        </p:nvSpPr>
        <p:spPr>
          <a:xfrm>
            <a:off x="7740720" y="3645000"/>
            <a:ext cx="71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9" descr=""/>
          <p:cNvPicPr/>
          <p:nvPr/>
        </p:nvPicPr>
        <p:blipFill>
          <a:blip r:embed="rId5"/>
          <a:stretch/>
        </p:blipFill>
        <p:spPr>
          <a:xfrm>
            <a:off x="5724360" y="3933720"/>
            <a:ext cx="2664000" cy="1538280"/>
          </a:xfrm>
          <a:prstGeom prst="rect">
            <a:avLst/>
          </a:prstGeom>
          <a:ln w="0">
            <a:noFill/>
          </a:ln>
        </p:spPr>
      </p:pic>
      <p:sp>
        <p:nvSpPr>
          <p:cNvPr id="112" name="Line 24"/>
          <p:cNvSpPr/>
          <p:nvPr/>
        </p:nvSpPr>
        <p:spPr>
          <a:xfrm>
            <a:off x="4572000" y="3860640"/>
            <a:ext cx="1655640" cy="720720"/>
          </a:xfrm>
          <a:prstGeom prst="line">
            <a:avLst/>
          </a:prstGeom>
          <a:ln w="25560">
            <a:solidFill>
              <a:srgbClr val="99ff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14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</a:rPr>
              <a:t>Morfra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Aderyn mawr gyda gwddf h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Yn gallu nofio o dan y dŵr yn dda ia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Yn hela am bysgod yn y mô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Rydych chi’n eu gweld yn aml yn sefyll gyda’u hadenydd ar led yn ceisio eu syc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I’w gweld o gwmpas arfordir Cymru ac yng nghefn gw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2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>
            <a:hlinkClick r:id="rId3"/>
          </p:cNvPr>
          <p:cNvSpPr/>
          <p:nvPr/>
        </p:nvSpPr>
        <p:spPr>
          <a:xfrm>
            <a:off x="0" y="32457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" descr="A cormorant (Phalacrocorax carbo) at Eyemouth harbour"/>
          <p:cNvPicPr/>
          <p:nvPr/>
        </p:nvPicPr>
        <p:blipFill>
          <a:blip r:embed="rId4"/>
          <a:stretch/>
        </p:blipFill>
        <p:spPr>
          <a:xfrm>
            <a:off x="5508720" y="2421000"/>
            <a:ext cx="3359160" cy="22669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8029080" y="443700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Walter Bax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8">
            <a:hlinkClick r:id="rId5"/>
          </p:cNvPr>
          <p:cNvSpPr/>
          <p:nvPr/>
        </p:nvSpPr>
        <p:spPr>
          <a:xfrm>
            <a:off x="8101080" y="4437000"/>
            <a:ext cx="647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27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</a:rPr>
              <a:t>Ystifflog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 ystifflog yn fath o folwsg o’r enw ‘seffalopod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n nhw’n perthyn i fôr-lewys (</a:t>
            </a:r>
            <a:r>
              <a:rPr b="0" i="1" lang="cy-GB" sz="2400" spc="-1" strike="noStrike">
                <a:solidFill>
                  <a:srgbClr val="333399"/>
                </a:solidFill>
                <a:latin typeface="Arial"/>
              </a:rPr>
              <a:t>squids</a:t>
            </a: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) ac octopys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Pan maen nhw’n teimlo dan fygythiad maen nhw’n rhyddhau inc i’r dŵr i ddrysu ysglyfaethwyr ac i ddia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n nhw’n ysglyfaethwyr bywiog ac yn bwyta molysgiaid eraill, pysgod ifanc a chranc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23"/>
          <p:cNvGrpSpPr/>
          <p:nvPr/>
        </p:nvGrpSpPr>
        <p:grpSpPr>
          <a:xfrm>
            <a:off x="5508720" y="2276640"/>
            <a:ext cx="3047760" cy="2304720"/>
            <a:chOff x="5508720" y="2276640"/>
            <a:chExt cx="3047760" cy="2304720"/>
          </a:xfrm>
        </p:grpSpPr>
        <p:pic>
          <p:nvPicPr>
            <p:cNvPr id="136" name="Picture 19" descr="320px-Sepia_officinalis_%28aquarium%29"/>
            <p:cNvPicPr/>
            <p:nvPr/>
          </p:nvPicPr>
          <p:blipFill>
            <a:blip r:embed="rId3"/>
            <a:stretch/>
          </p:blipFill>
          <p:spPr>
            <a:xfrm>
              <a:off x="5508720" y="2276640"/>
              <a:ext cx="30477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7"/>
            <p:cNvSpPr/>
            <p:nvPr/>
          </p:nvSpPr>
          <p:spPr>
            <a:xfrm>
              <a:off x="6804000" y="4365720"/>
              <a:ext cx="174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</a:rPr>
                <a:t>© Hans Hillewaert / CC-BY-SA-3.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0">
              <a:hlinkClick r:id="rId4"/>
            </p:cNvPr>
            <p:cNvSpPr/>
            <p:nvPr/>
          </p:nvSpPr>
          <p:spPr>
            <a:xfrm>
              <a:off x="6877080" y="4365720"/>
              <a:ext cx="165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14:43:44Z</dcterms:created>
  <dc:creator>eli93093</dc:creator>
  <dc:description/>
  <dc:language>en-US</dc:language>
  <cp:lastModifiedBy>eli93093</cp:lastModifiedBy>
  <dcterms:modified xsi:type="dcterms:W3CDTF">2014-01-09T15:01:01Z</dcterms:modified>
  <cp:revision>48</cp:revision>
  <dc:subject/>
  <dc:title>Slide 1</dc:title>
</cp:coreProperties>
</file>