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30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9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1FF-F9F5-4ED6-8A23-2DF179F9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D6A-60D5-4727-B381-31D09E34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0AE-301A-4181-9947-0812663C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387-834D-43DA-A6A9-F091C14D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874-C3AC-4BCA-B056-922E3A55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7A2-3126-4D07-A215-BA8CB2D5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123-3DF7-4164-B804-2DB94EBE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6E0-B90F-4488-AD17-7B69337F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DBA-38CA-431C-8545-C940E4A1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A45-FAA7-47AB-B018-8BE7C812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082-2988-4D00-B8C6-EC81665D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35F-1171-41DB-98B5-A2EC8D9A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4553-C69C-4288-980C-5B9FBB8FEC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2.jpeg"/><Relationship Id="rId7" Type="http://schemas.openxmlformats.org/officeDocument/2006/relationships/image" Target="../media/image15.png"/><Relationship Id="rId8" Type="http://schemas.openxmlformats.org/officeDocument/2006/relationships/slide" Target=""/><Relationship Id="rId9" Type="http://schemas.openxmlformats.org/officeDocument/2006/relationships/image" Target="../media/image16.jpeg"/><Relationship Id="rId10" Type="http://schemas.openxmlformats.org/officeDocument/2006/relationships/hyperlink" Target="http://www.flickr.com/photos/noodlefish/1392139720/" TargetMode="External"/><Relationship Id="rId11" Type="http://schemas.openxmlformats.org/officeDocument/2006/relationships/hyperlink" Target="http://en.wikipedia.org/wiki/File:Flickr-2884079538-original.jpg" TargetMode="External"/><Relationship Id="rId12" Type="http://schemas.openxmlformats.org/officeDocument/2006/relationships/hyperlink" Target="http://www.flickr.com/photos/husseinabdallah/3901736085/" TargetMode="External"/><Relationship Id="rId13" Type="http://schemas.openxmlformats.org/officeDocument/2006/relationships/image" Target="../media/image17.png"/><Relationship Id="rId14" Type="http://schemas.openxmlformats.org/officeDocument/2006/relationships/hyperlink" Target="http://www.flickr.com/photos/zelko_slamaj/7980149366/" TargetMode="External"/><Relationship Id="rId15" Type="http://schemas.openxmlformats.org/officeDocument/2006/relationships/hyperlink" Target="http://www.flickr.com/photos/globalvoyager/2190490425/" TargetMode="External"/><Relationship Id="rId16" Type="http://schemas.openxmlformats.org/officeDocument/2006/relationships/hyperlink" Target="http://commons.wikimedia.org/wiki/File:Seaweed_at_Largs_-_geograph.org.uk_-_499117.jpg" TargetMode="External"/><Relationship Id="rId17" Type="http://schemas.openxmlformats.org/officeDocument/2006/relationships/hyperlink" Target="http://frank.itlab.us/photo_essays/wrapper.php?aug_02_2008_bintan.html" TargetMode="External"/><Relationship Id="rId18" Type="http://schemas.openxmlformats.org/officeDocument/2006/relationships/hyperlink" Target="http://jfiddler.smugmug.com/keyword/jugla/74142548_fDntXj3" TargetMode="Externa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b/TomCorser_Seaweed_3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commons.wikimedia.org/wiki/File:TomCorser_Seaweed_2.jpg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www.flickr.com/photos/theowright/3993259247/sizes/m/in/photostream/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google.co.uk/url?sa=i&amp;rct=j&amp;q=&amp;esrc=s&amp;frm=1&amp;source=images&amp;cd=&amp;cad=rja&amp;docid=oyeihDpLcVxLtM&amp;tbnid=7yIrvk1rgtMKJM:&amp;ved=0CAUQjRw&amp;url=http://commons.wikimedia.org/wiki/File:Hippocampus_hystrix_(Spiny_seahorse)_yellow.jpg&amp;ei=zr4xUsTmBKuY0QWvjoGwDQ&amp;bvm=bv.52109249,d.d2k&amp;psig=AFQjCNFudVy5srVv-vJmJgvhjjTDY5Pidg&amp;ust=137907821378297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flickr.com/photos/trektrack/3443614260/" TargetMode="External"/><Relationship Id="rId6" Type="http://schemas.openxmlformats.org/officeDocument/2006/relationships/hyperlink" Target="http://commons.wikimedia.org/wiki/File:Hippocampus_hystrix_(Spiny_seahorse)_yellow.jpg" TargetMode="External"/><Relationship Id="rId7" Type="http://schemas.openxmlformats.org/officeDocument/2006/relationships/hyperlink" Target="http://www.flickr.com/photos/tom_weilenmann/51673288/in/gallery-48657858@N08-72157623543427111/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flickr.com/photos/rays/2508921550/" TargetMode="External"/><Relationship Id="rId5" Type="http://schemas.openxmlformats.org/officeDocument/2006/relationships/hyperlink" Target="http://www.geograph.org.uk/photo/927102" TargetMode="External"/><Relationship Id="rId6" Type="http://schemas.openxmlformats.org/officeDocument/2006/relationships/hyperlink" Target="http://www.flickr.com/photos/mattb_tv/829906779/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c/Laysan_Albatross_RWD3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file://upload.wikimedia.org/wikipedia/commons/2/25/African_Penguin_RWD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commons.wikimedia.org/wiki/File:African_Penguin_RWD.jpg" TargetMode="External"/><Relationship Id="rId6" Type="http://schemas.openxmlformats.org/officeDocument/2006/relationships/hyperlink" Target="http://commons.wikimedia.org/wiki/File:Laysan_Albatross_RWD3.jpg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hyperlink" Target="http://www.flickr.com/photos/hiitscj/2269657255/" TargetMode="External"/><Relationship Id="rId6" Type="http://schemas.openxmlformats.org/officeDocument/2006/relationships/hyperlink" Target="http://en.wikipedia.org/wiki/File:Saltwater_crocodile.jpg" TargetMode="External"/><Relationship Id="rId7" Type="http://schemas.openxmlformats.org/officeDocument/2006/relationships/hyperlink" Target="http://searunner.sv-timemachine.net/page/9/?tag=TimeMachine+nature" TargetMode="External"/><Relationship Id="rId8" Type="http://schemas.openxmlformats.org/officeDocument/2006/relationships/hyperlink" Target="http://www.flickr.com/photos/45325473@N04/6885480972/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hyperlink" Target="http://www.flickr.com/photos/xoto/101734831/" TargetMode="External"/><Relationship Id="rId11" Type="http://schemas.openxmlformats.org/officeDocument/2006/relationships/hyperlink" Target="http://frank.itlab.us/photo_essays/wrapper.php?sep_27_2008_mapur.html" TargetMode="External"/><Relationship Id="rId12" Type="http://schemas.openxmlformats.org/officeDocument/2006/relationships/image" Target="../media/image41.png"/><Relationship Id="rId13" Type="http://schemas.openxmlformats.org/officeDocument/2006/relationships/image" Target="../media/image42.jpeg"/><Relationship Id="rId14" Type="http://schemas.openxmlformats.org/officeDocument/2006/relationships/hyperlink" Target="http://www.google.co.uk/url?sa=i&amp;rct=j&amp;q=&amp;esrc=s&amp;frm=1&amp;source=images&amp;cd=&amp;cad=rja&amp;docid=_XBN7ut-dUMvoM&amp;tbnid=lL8rGyARkhkMrM:&amp;ved=0CAUQjRw&amp;url=http://www.fotopedia.com/items/flickr-89249562&amp;ei=w8ULUfW_FIfK4AS7yoHwCQ&amp;psig=AFQjCNE3E8EOga9cn5EROFLCDndAhpWbDA&amp;ust=1359812303537734" TargetMode="External"/><Relationship Id="rId15" Type="http://schemas.openxmlformats.org/officeDocument/2006/relationships/image" Target="../media/image43.jpeg"/><Relationship Id="rId16" Type="http://schemas.openxmlformats.org/officeDocument/2006/relationships/hyperlink" Target="http://commons.wikimedia.org/wiki/File:Jellyfish_aqurium.jpg" TargetMode="External"/><Relationship Id="rId17" Type="http://schemas.openxmlformats.org/officeDocument/2006/relationships/hyperlink" Target="http://www.flickr.com/photos/barabanov/3405241268/" TargetMode="External"/><Relationship Id="rId18" Type="http://schemas.openxmlformats.org/officeDocument/2006/relationships/hyperlink" Target="http://www.flickr.com/photos/sam_and_ian/89249562/" TargetMode="External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hyperlink" Target="http://www.flickr.com/photos/54527470@N00/8733272875/in/photolist-eiJiLg-eiJiE8-eiQ2C9-eiJiAi-eiQ2wh-eiQ2sq-ei1YWY-ehSbss-ehSbqJ-ehAV7J-ehAB7S-ehAsvQ-ehuGGi-ehAsq3-e8gg74-e8amTd-e84gWp-e83wht-e83wga-e4pBqw-e4pDcy-e4pBk3-e4pBnu-e2TkD1-e2TkHs-e2MGaK-e1PFTG-e1HKPD-e1P7kf-e1HsNx-e1P7qq-e1HsUX-e1HsQc-e1P7eq-e1P7n9-dZMzLd-dZMAcU-dZFSJ4-dZFT4R-dUsm4D-dRStha-dLoNkz-dL7tcW-dEYYjN-dEYYh7-dBb991-dB5FaM-dB5FdD-dxTLzd-duG5Nc-duG5YM" TargetMode="External"/><Relationship Id="rId22" Type="http://schemas.openxmlformats.org/officeDocument/2006/relationships/image" Target="../media/image46.png"/><Relationship Id="rId23" Type="http://schemas.openxmlformats.org/officeDocument/2006/relationships/hyperlink" Target="http://www.flickr.com/photos/54527470@N00/6839484575/in/photolist-bqo9tR-bn3ert-bkVuVT-bcWt6k-aS9ycP-aPGFMB-aEN7Gy-aEJ9Jx-aEy2xy-aEubzk-aDFvuN-aDBE2v-aDFvtu-aDFvyh-aDFvx5-aBYM3m-aBW83i-aBW85e-aBW84c-axoSUb-av42cF-atQMPC-atQMMy-atN866-atz4kQ-akkkUo-akkkDL-ajDqLx-ajDqH6-ahHzQU-ahHzNL-ahj5YS-ahj5EQ-agTMNv-agmEvk-agppZw-agpq2w-agpeSQ-agpeTY-afMSrz-afMSte-aeiXps-abAxdZ-abDntW-abDnz5-abAxgi-ab1HqY-ab1H79-ab1HsS-aaAXmg-aaDhE9" TargetMode="External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saspotato/6829273296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File:Clouds_over_the_Atlantic_Ocean.j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coda/380353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eograph.org.uk/photo/3258356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lickr.com/photos/13382424@N00/600900763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400" spc="-1" strike="noStrike">
                <a:solidFill>
                  <a:srgbClr val="333399"/>
                </a:solidFill>
                <a:latin typeface="Arial"/>
                <a:ea typeface="Arial"/>
              </a:rPr>
              <a:t>Bywyd Gwyllt </a:t>
            </a:r>
            <a:br>
              <a:rPr sz="5400"/>
            </a:br>
            <a:r>
              <a:rPr b="1" lang="cy-GB" sz="5400" spc="-1" strike="noStrike">
                <a:solidFill>
                  <a:srgbClr val="333399"/>
                </a:solidFill>
                <a:latin typeface="Arial"/>
                <a:ea typeface="Arial"/>
              </a:rPr>
              <a:t>y Môr a’r Arford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Beth sy’n byw yn y mô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’r môr yn llawn o greaduriaid rhyfed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’r sleidiau nesaf yn edrych ar y prif fathau o </a:t>
            </a:r>
            <a:r>
              <a:rPr b="1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blanhigion ac anifeiliaid </a:t>
            </a: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sy’n byw yn y mô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755640" y="3213000"/>
            <a:ext cx="7949160" cy="2879640"/>
            <a:chOff x="755640" y="3213000"/>
            <a:chExt cx="7949160" cy="2879640"/>
          </a:xfrm>
        </p:grpSpPr>
        <p:pic>
          <p:nvPicPr>
            <p:cNvPr id="147" name="Picture 42" descr="aug 02 1552 coral clam"/>
            <p:cNvPicPr/>
            <p:nvPr/>
          </p:nvPicPr>
          <p:blipFill>
            <a:blip r:embed="rId1"/>
            <a:stretch/>
          </p:blipFill>
          <p:spPr>
            <a:xfrm>
              <a:off x="6300720" y="4653000"/>
              <a:ext cx="21477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43"/>
            <p:cNvSpPr/>
            <p:nvPr/>
          </p:nvSpPr>
          <p:spPr>
            <a:xfrm>
              <a:off x="7670160" y="5877000"/>
              <a:ext cx="83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Frank Star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32"/>
            <p:cNvGrpSpPr/>
            <p:nvPr/>
          </p:nvGrpSpPr>
          <p:grpSpPr>
            <a:xfrm>
              <a:off x="3708360" y="4581360"/>
              <a:ext cx="1799640" cy="1296720"/>
              <a:chOff x="3708360" y="4581360"/>
              <a:chExt cx="1799640" cy="1296720"/>
            </a:xfrm>
          </p:grpSpPr>
          <p:pic>
            <p:nvPicPr>
              <p:cNvPr id="150" name="Picture 24" descr="2190490425_60ece251a0"/>
              <p:cNvPicPr/>
              <p:nvPr/>
            </p:nvPicPr>
            <p:blipFill>
              <a:blip r:embed="rId2"/>
              <a:stretch/>
            </p:blipFill>
            <p:spPr>
              <a:xfrm>
                <a:off x="370836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25"/>
              <p:cNvSpPr/>
              <p:nvPr/>
            </p:nvSpPr>
            <p:spPr>
              <a:xfrm>
                <a:off x="4642920" y="5660640"/>
                <a:ext cx="865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" name="Picture 12" descr="flickr-1392139720-original"/>
            <p:cNvPicPr/>
            <p:nvPr/>
          </p:nvPicPr>
          <p:blipFill>
            <a:blip r:embed="rId3"/>
            <a:stretch/>
          </p:blipFill>
          <p:spPr>
            <a:xfrm>
              <a:off x="755640" y="3357360"/>
              <a:ext cx="18000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3"/>
            <p:cNvSpPr/>
            <p:nvPr/>
          </p:nvSpPr>
          <p:spPr>
            <a:xfrm>
              <a:off x="1906560" y="443700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Noodlefi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1331640" y="4581360"/>
              <a:ext cx="1799640" cy="1296720"/>
              <a:chOff x="1331640" y="4581360"/>
              <a:chExt cx="1799640" cy="1296720"/>
            </a:xfrm>
          </p:grpSpPr>
          <p:pic>
            <p:nvPicPr>
              <p:cNvPr id="155" name="Picture 15" descr="flickr-2884079538-original"/>
              <p:cNvPicPr/>
              <p:nvPr/>
            </p:nvPicPr>
            <p:blipFill>
              <a:blip r:embed="rId4"/>
              <a:stretch/>
            </p:blipFill>
            <p:spPr>
              <a:xfrm>
                <a:off x="133164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Text Box 16"/>
              <p:cNvSpPr/>
              <p:nvPr/>
            </p:nvSpPr>
            <p:spPr>
              <a:xfrm>
                <a:off x="2410920" y="566064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TheMarg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0"/>
            <p:cNvGrpSpPr/>
            <p:nvPr/>
          </p:nvGrpSpPr>
          <p:grpSpPr>
            <a:xfrm>
              <a:off x="2700360" y="3933720"/>
              <a:ext cx="1439640" cy="864720"/>
              <a:chOff x="2700360" y="3933720"/>
              <a:chExt cx="1439640" cy="864720"/>
            </a:xfrm>
          </p:grpSpPr>
          <p:pic>
            <p:nvPicPr>
              <p:cNvPr id="158" name="Picture 18" descr="3901736085_f8666349f3_z"/>
              <p:cNvPicPr/>
              <p:nvPr/>
            </p:nvPicPr>
            <p:blipFill>
              <a:blip r:embed="rId5"/>
              <a:stretch/>
            </p:blipFill>
            <p:spPr>
              <a:xfrm>
                <a:off x="2700360" y="3933720"/>
                <a:ext cx="1296720" cy="86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Text Box 19"/>
              <p:cNvSpPr/>
              <p:nvPr/>
            </p:nvSpPr>
            <p:spPr>
              <a:xfrm>
                <a:off x="3419280" y="458280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abdallah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8"/>
            <p:cNvGrpSpPr/>
            <p:nvPr/>
          </p:nvGrpSpPr>
          <p:grpSpPr>
            <a:xfrm>
              <a:off x="755640" y="3357360"/>
              <a:ext cx="1871280" cy="1294920"/>
              <a:chOff x="755640" y="3357360"/>
              <a:chExt cx="1871280" cy="1294920"/>
            </a:xfrm>
          </p:grpSpPr>
          <p:pic>
            <p:nvPicPr>
              <p:cNvPr id="161" name="Picture 26" descr="flickr-1392139720-original"/>
              <p:cNvPicPr/>
              <p:nvPr/>
            </p:nvPicPr>
            <p:blipFill>
              <a:blip r:embed="rId6"/>
              <a:stretch/>
            </p:blipFill>
            <p:spPr>
              <a:xfrm>
                <a:off x="755640" y="3357360"/>
                <a:ext cx="1800000" cy="12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 Box 27"/>
              <p:cNvSpPr/>
              <p:nvPr/>
            </p:nvSpPr>
            <p:spPr>
              <a:xfrm>
                <a:off x="1906200" y="443664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Noodlefis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3" name="Picture 7" descr=""/>
            <p:cNvPicPr/>
            <p:nvPr/>
          </p:nvPicPr>
          <p:blipFill>
            <a:blip r:embed="rId7"/>
            <a:stretch/>
          </p:blipFill>
          <p:spPr>
            <a:xfrm>
              <a:off x="5148000" y="3429000"/>
              <a:ext cx="1855800" cy="139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" name="Group 46"/>
            <p:cNvGrpSpPr/>
            <p:nvPr/>
          </p:nvGrpSpPr>
          <p:grpSpPr>
            <a:xfrm>
              <a:off x="7626600" y="3357360"/>
              <a:ext cx="1078200" cy="1655280"/>
              <a:chOff x="7626600" y="3357360"/>
              <a:chExt cx="1078200" cy="1655280"/>
            </a:xfrm>
          </p:grpSpPr>
          <p:pic>
            <p:nvPicPr>
              <p:cNvPr id="165" name="Picture 41" descr="A-17 Jugla Point - Gentoo Penguin">
                <a:hlinkClick r:id="rId8" action="ppaction://hlinksldjump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7626600" y="3357360"/>
                <a:ext cx="102204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Text Box 45"/>
              <p:cNvSpPr/>
              <p:nvPr/>
            </p:nvSpPr>
            <p:spPr>
              <a:xfrm>
                <a:off x="7957080" y="4797000"/>
                <a:ext cx="747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"/>
                  </a:rPr>
                  <a:t>Jerry Fiddl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Rectangle 1">
              <a:hlinkClick r:id="rId10"/>
            </p:cNvPr>
            <p:cNvSpPr/>
            <p:nvPr/>
          </p:nvSpPr>
          <p:spPr>
            <a:xfrm>
              <a:off x="1979640" y="4508280"/>
              <a:ext cx="50472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">
              <a:hlinkClick r:id="rId11"/>
            </p:cNvPr>
            <p:cNvSpPr/>
            <p:nvPr/>
          </p:nvSpPr>
          <p:spPr>
            <a:xfrm>
              <a:off x="2484360" y="5734080"/>
              <a:ext cx="50292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>
              <a:hlinkClick r:id="rId12"/>
            </p:cNvPr>
            <p:cNvSpPr/>
            <p:nvPr/>
          </p:nvSpPr>
          <p:spPr>
            <a:xfrm>
              <a:off x="3492360" y="4653000"/>
              <a:ext cx="43164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4" descr=""/>
            <p:cNvPicPr/>
            <p:nvPr/>
          </p:nvPicPr>
          <p:blipFill>
            <a:blip r:embed="rId13"/>
            <a:stretch/>
          </p:blipFill>
          <p:spPr>
            <a:xfrm>
              <a:off x="3780000" y="3213000"/>
              <a:ext cx="1523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22"/>
            <p:cNvSpPr/>
            <p:nvPr/>
          </p:nvSpPr>
          <p:spPr>
            <a:xfrm>
              <a:off x="4716360" y="400500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zslama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>
              <a:hlinkClick r:id="rId14"/>
            </p:cNvPr>
            <p:cNvSpPr/>
            <p:nvPr/>
          </p:nvSpPr>
          <p:spPr>
            <a:xfrm>
              <a:off x="4788000" y="4076640"/>
              <a:ext cx="36036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>
              <a:hlinkClick r:id="rId15"/>
            </p:cNvPr>
            <p:cNvSpPr/>
            <p:nvPr/>
          </p:nvSpPr>
          <p:spPr>
            <a:xfrm>
              <a:off x="4716360" y="5734080"/>
              <a:ext cx="64764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8"/>
            <p:cNvSpPr/>
            <p:nvPr/>
          </p:nvSpPr>
          <p:spPr>
            <a:xfrm>
              <a:off x="6019560" y="4581000"/>
              <a:ext cx="93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ave Hitchbor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">
              <a:hlinkClick r:id="rId16"/>
            </p:cNvPr>
            <p:cNvSpPr/>
            <p:nvPr/>
          </p:nvSpPr>
          <p:spPr>
            <a:xfrm>
              <a:off x="6085080" y="4653000"/>
              <a:ext cx="71892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>
              <a:hlinkClick r:id="rId17"/>
            </p:cNvPr>
            <p:cNvSpPr/>
            <p:nvPr/>
          </p:nvSpPr>
          <p:spPr>
            <a:xfrm>
              <a:off x="7740720" y="5950080"/>
              <a:ext cx="64764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>
              <a:hlinkClick r:id="rId18"/>
            </p:cNvPr>
            <p:cNvSpPr/>
            <p:nvPr/>
          </p:nvSpPr>
          <p:spPr>
            <a:xfrm>
              <a:off x="8028000" y="4869000"/>
              <a:ext cx="50472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Planh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53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sawl math o wy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gwymon yn gallu bod yn goch, brown neu’n wyr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gwymon yn defnyddio golau’r haul a CO</a:t>
            </a:r>
            <a:r>
              <a:rPr b="0" lang="cy-GB" sz="2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 i wneud bwy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gan rai bocedi aer i’w helpu nhw arnof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n nhw’n sownd wrth greigiau neu wely’r mô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5435640" y="3716280"/>
            <a:ext cx="2954160" cy="2233440"/>
            <a:chOff x="5435640" y="3716280"/>
            <a:chExt cx="2954160" cy="2233440"/>
          </a:xfrm>
        </p:grpSpPr>
        <p:grpSp>
          <p:nvGrpSpPr>
            <p:cNvPr id="186" name="Group 14"/>
            <p:cNvGrpSpPr/>
            <p:nvPr/>
          </p:nvGrpSpPr>
          <p:grpSpPr>
            <a:xfrm>
              <a:off x="5435640" y="3716280"/>
              <a:ext cx="2954160" cy="2233440"/>
              <a:chOff x="5435640" y="3716280"/>
              <a:chExt cx="2954160" cy="2233440"/>
            </a:xfrm>
          </p:grpSpPr>
          <p:pic>
            <p:nvPicPr>
              <p:cNvPr id="187" name="Picture 14" descr="File:TomCorser Seaweed 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5435640" y="3716280"/>
                <a:ext cx="2952720" cy="22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15"/>
              <p:cNvSpPr/>
              <p:nvPr/>
            </p:nvSpPr>
            <p:spPr>
              <a:xfrm>
                <a:off x="7667640" y="5734080"/>
                <a:ext cx="722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Tom Cors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1">
              <a:hlinkClick r:id="rId3"/>
            </p:cNvPr>
            <p:cNvSpPr/>
            <p:nvPr/>
          </p:nvSpPr>
          <p:spPr>
            <a:xfrm>
              <a:off x="7740720" y="5805720"/>
              <a:ext cx="64764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5"/>
          <p:cNvGrpSpPr/>
          <p:nvPr/>
        </p:nvGrpSpPr>
        <p:grpSpPr>
          <a:xfrm>
            <a:off x="5435640" y="1557360"/>
            <a:ext cx="2945160" cy="2087640"/>
            <a:chOff x="5435640" y="1557360"/>
            <a:chExt cx="2945160" cy="2087640"/>
          </a:xfrm>
        </p:grpSpPr>
        <p:pic>
          <p:nvPicPr>
            <p:cNvPr id="191" name="Picture 2" descr=""/>
            <p:cNvPicPr/>
            <p:nvPr/>
          </p:nvPicPr>
          <p:blipFill>
            <a:blip r:embed="rId4"/>
            <a:stretch/>
          </p:blipFill>
          <p:spPr>
            <a:xfrm>
              <a:off x="5435640" y="1557360"/>
              <a:ext cx="2921760" cy="20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3"/>
            <p:cNvSpPr/>
            <p:nvPr/>
          </p:nvSpPr>
          <p:spPr>
            <a:xfrm>
              <a:off x="7678800" y="3429000"/>
              <a:ext cx="70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heo W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">
              <a:hlinkClick r:id="rId5"/>
            </p:cNvPr>
            <p:cNvSpPr/>
            <p:nvPr/>
          </p:nvSpPr>
          <p:spPr>
            <a:xfrm>
              <a:off x="7740720" y="3500640"/>
              <a:ext cx="576000" cy="144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5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8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Pysg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5113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Gwaed o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Corff main ar gyfer nof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n cael ocsigen trwy eu tagell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n nhw’n amrywio o ran maint – rhai yn llai nag 1cm ac eraill cyn hired ag 16 me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iloedd o rywogaethau gwah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Bwyd pwysig i bo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6084720" y="1052640"/>
            <a:ext cx="2231280" cy="4927320"/>
            <a:chOff x="6084720" y="1052640"/>
            <a:chExt cx="2231280" cy="4927320"/>
          </a:xfrm>
        </p:grpSpPr>
        <p:grpSp>
          <p:nvGrpSpPr>
            <p:cNvPr id="202" name="Group 17"/>
            <p:cNvGrpSpPr/>
            <p:nvPr/>
          </p:nvGrpSpPr>
          <p:grpSpPr>
            <a:xfrm>
              <a:off x="6084720" y="1052640"/>
              <a:ext cx="2231280" cy="1444320"/>
              <a:chOff x="6084720" y="1052640"/>
              <a:chExt cx="2231280" cy="1444320"/>
            </a:xfrm>
          </p:grpSpPr>
          <p:pic>
            <p:nvPicPr>
              <p:cNvPr id="203" name="Picture 19" descr="3443614260_e3880e28b5"/>
              <p:cNvPicPr/>
              <p:nvPr/>
            </p:nvPicPr>
            <p:blipFill>
              <a:blip r:embed="rId1"/>
              <a:stretch/>
            </p:blipFill>
            <p:spPr>
              <a:xfrm>
                <a:off x="6084720" y="1052640"/>
                <a:ext cx="2171880" cy="14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20"/>
              <p:cNvSpPr/>
              <p:nvPr/>
            </p:nvSpPr>
            <p:spPr>
              <a:xfrm>
                <a:off x="7454160" y="2276280"/>
                <a:ext cx="861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Ken Funakosh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19"/>
            <p:cNvGrpSpPr/>
            <p:nvPr/>
          </p:nvGrpSpPr>
          <p:grpSpPr>
            <a:xfrm>
              <a:off x="6084720" y="4365720"/>
              <a:ext cx="2205000" cy="1614240"/>
              <a:chOff x="6084720" y="4365720"/>
              <a:chExt cx="2205000" cy="1614240"/>
            </a:xfrm>
          </p:grpSpPr>
          <p:pic>
            <p:nvPicPr>
              <p:cNvPr id="206" name="Picture 22" descr="51673288_61af1d331a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4365720"/>
                <a:ext cx="2159280" cy="16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23"/>
              <p:cNvSpPr/>
              <p:nvPr/>
            </p:nvSpPr>
            <p:spPr>
              <a:xfrm>
                <a:off x="7310520" y="5734080"/>
                <a:ext cx="979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Tom Weiienman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8"/>
            <p:cNvGrpSpPr/>
            <p:nvPr/>
          </p:nvGrpSpPr>
          <p:grpSpPr>
            <a:xfrm>
              <a:off x="6084720" y="2636640"/>
              <a:ext cx="2189880" cy="1657080"/>
              <a:chOff x="6084720" y="2636640"/>
              <a:chExt cx="2189880" cy="1657080"/>
            </a:xfrm>
          </p:grpSpPr>
          <p:pic>
            <p:nvPicPr>
              <p:cNvPr id="209" name="Picture 14" descr="Hippocampus_hystrix_(Spiny_seahorse)_yellow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084720" y="2636640"/>
                <a:ext cx="2159280" cy="16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Text Box 20"/>
              <p:cNvSpPr/>
              <p:nvPr/>
            </p:nvSpPr>
            <p:spPr>
              <a:xfrm>
                <a:off x="7453800" y="4078080"/>
                <a:ext cx="82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Rectangle 2">
              <a:hlinkClick r:id="rId5"/>
            </p:cNvPr>
            <p:cNvSpPr/>
            <p:nvPr/>
          </p:nvSpPr>
          <p:spPr>
            <a:xfrm>
              <a:off x="7524720" y="2349360"/>
              <a:ext cx="64764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">
              <a:hlinkClick r:id="rId6"/>
            </p:cNvPr>
            <p:cNvSpPr/>
            <p:nvPr/>
          </p:nvSpPr>
          <p:spPr>
            <a:xfrm>
              <a:off x="7451640" y="4149720"/>
              <a:ext cx="79200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>
              <a:hlinkClick r:id="rId7"/>
            </p:cNvPr>
            <p:cNvSpPr/>
            <p:nvPr/>
          </p:nvSpPr>
          <p:spPr>
            <a:xfrm>
              <a:off x="7380360" y="5805360"/>
              <a:ext cx="792000" cy="144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Mamali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89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tri phrif grŵ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orfilod a dolffini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or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natîaid a dwgongia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n dod i’r wyneb i anad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n rhoi llefrith i’w lloi b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Gwaed cyn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 morfil glas ydi’r anifail mwyaf erioed i fyw ar y Dda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5003640" y="1484280"/>
            <a:ext cx="3816360" cy="4897080"/>
            <a:chOff x="5003640" y="1484280"/>
            <a:chExt cx="3816360" cy="4897080"/>
          </a:xfrm>
        </p:grpSpPr>
        <p:grpSp>
          <p:nvGrpSpPr>
            <p:cNvPr id="222" name="Group 19"/>
            <p:cNvGrpSpPr/>
            <p:nvPr/>
          </p:nvGrpSpPr>
          <p:grpSpPr>
            <a:xfrm>
              <a:off x="5940000" y="1484280"/>
              <a:ext cx="2424240" cy="1929960"/>
              <a:chOff x="5940000" y="1484280"/>
              <a:chExt cx="2424240" cy="1929960"/>
            </a:xfrm>
          </p:grpSpPr>
          <p:pic>
            <p:nvPicPr>
              <p:cNvPr id="223" name="Picture 11" descr="2508921550_290310b0d9_z"/>
              <p:cNvPicPr/>
              <p:nvPr/>
            </p:nvPicPr>
            <p:blipFill>
              <a:blip r:embed="rId1"/>
              <a:stretch/>
            </p:blipFill>
            <p:spPr>
              <a:xfrm>
                <a:off x="5940000" y="1484280"/>
                <a:ext cx="242424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Text Box 12"/>
              <p:cNvSpPr/>
              <p:nvPr/>
            </p:nvSpPr>
            <p:spPr>
              <a:xfrm>
                <a:off x="7524360" y="2924280"/>
                <a:ext cx="8301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Ray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Slakins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21"/>
            <p:cNvGrpSpPr/>
            <p:nvPr/>
          </p:nvGrpSpPr>
          <p:grpSpPr>
            <a:xfrm>
              <a:off x="6300720" y="4724640"/>
              <a:ext cx="2519280" cy="1656720"/>
              <a:chOff x="6300720" y="4724640"/>
              <a:chExt cx="2519280" cy="1656720"/>
            </a:xfrm>
          </p:grpSpPr>
          <p:pic>
            <p:nvPicPr>
              <p:cNvPr id="226" name="Picture 17" descr="MANATEE_FUG_YEAH"/>
              <p:cNvPicPr/>
              <p:nvPr/>
            </p:nvPicPr>
            <p:blipFill>
              <a:blip r:embed="rId2"/>
              <a:stretch/>
            </p:blipFill>
            <p:spPr>
              <a:xfrm>
                <a:off x="6300720" y="4724640"/>
                <a:ext cx="2468520" cy="164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18"/>
              <p:cNvSpPr/>
              <p:nvPr/>
            </p:nvSpPr>
            <p:spPr>
              <a:xfrm>
                <a:off x="7740720" y="6165720"/>
                <a:ext cx="107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Matthew Bednari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0"/>
            <p:cNvGrpSpPr/>
            <p:nvPr/>
          </p:nvGrpSpPr>
          <p:grpSpPr>
            <a:xfrm>
              <a:off x="5003640" y="3141720"/>
              <a:ext cx="2703600" cy="1726920"/>
              <a:chOff x="5003640" y="3141720"/>
              <a:chExt cx="2703600" cy="1726920"/>
            </a:xfrm>
          </p:grpSpPr>
          <p:pic>
            <p:nvPicPr>
              <p:cNvPr id="229" name="Picture 14" descr="Young common seal on beach at Cley Eye"/>
              <p:cNvPicPr/>
              <p:nvPr/>
            </p:nvPicPr>
            <p:blipFill>
              <a:blip r:embed="rId3"/>
              <a:stretch/>
            </p:blipFill>
            <p:spPr>
              <a:xfrm>
                <a:off x="5003640" y="3141720"/>
                <a:ext cx="2568600" cy="17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15"/>
              <p:cNvSpPr/>
              <p:nvPr/>
            </p:nvSpPr>
            <p:spPr>
              <a:xfrm>
                <a:off x="6877080" y="465300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Ian Capp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">
              <a:hlinkClick r:id="rId4"/>
            </p:cNvPr>
            <p:cNvSpPr/>
            <p:nvPr/>
          </p:nvSpPr>
          <p:spPr>
            <a:xfrm>
              <a:off x="7596000" y="3068640"/>
              <a:ext cx="72072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">
              <a:hlinkClick r:id="rId5"/>
            </p:cNvPr>
            <p:cNvSpPr/>
            <p:nvPr/>
          </p:nvSpPr>
          <p:spPr>
            <a:xfrm>
              <a:off x="6948360" y="4653000"/>
              <a:ext cx="57600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">
              <a:hlinkClick r:id="rId6"/>
            </p:cNvPr>
            <p:cNvSpPr/>
            <p:nvPr/>
          </p:nvSpPr>
          <p:spPr>
            <a:xfrm>
              <a:off x="7812000" y="6237720"/>
              <a:ext cx="86364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A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56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llawer o adar môr yn treulio eu bywydau cyfan ar y môr – gan ddod i’r tir i fagu eu cyw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eraill yn aros ar hyd yr arfordir drwy gydol y flwydd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Yn aml iawn maen nhw’n byw mewn nythfeydd enfawr ar glogwy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Albatros ydi’r aderyn môr mwyaf (gall lled ei adenydd fod yn 3.5 met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ae adar môr yn cynnwys palod, gwylanod, pengwiniaid, hwyaid môr a morf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6084720" y="1700280"/>
            <a:ext cx="2630520" cy="3844440"/>
            <a:chOff x="6084720" y="1700280"/>
            <a:chExt cx="2630520" cy="3844440"/>
          </a:xfrm>
        </p:grpSpPr>
        <p:grpSp>
          <p:nvGrpSpPr>
            <p:cNvPr id="242" name="Group 20"/>
            <p:cNvGrpSpPr/>
            <p:nvPr/>
          </p:nvGrpSpPr>
          <p:grpSpPr>
            <a:xfrm>
              <a:off x="6084720" y="3573000"/>
              <a:ext cx="2630520" cy="1971720"/>
              <a:chOff x="6084720" y="3573000"/>
              <a:chExt cx="2630520" cy="1971720"/>
            </a:xfrm>
          </p:grpSpPr>
          <p:pic>
            <p:nvPicPr>
              <p:cNvPr id="243" name="Picture 16" descr="File:Laysan Albatross RWD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6084720" y="3573000"/>
                <a:ext cx="2627640" cy="197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12"/>
              <p:cNvSpPr/>
              <p:nvPr/>
            </p:nvSpPr>
            <p:spPr>
              <a:xfrm>
                <a:off x="7885080" y="530172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21"/>
            <p:cNvGrpSpPr/>
            <p:nvPr/>
          </p:nvGrpSpPr>
          <p:grpSpPr>
            <a:xfrm>
              <a:off x="6228000" y="1700280"/>
              <a:ext cx="2448000" cy="1776240"/>
              <a:chOff x="6228000" y="1700280"/>
              <a:chExt cx="2448000" cy="1776240"/>
            </a:xfrm>
          </p:grpSpPr>
          <p:pic>
            <p:nvPicPr>
              <p:cNvPr id="246" name="Picture 18" descr="File:African Penguin RWD.jpg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228000" y="1700280"/>
                <a:ext cx="2340000" cy="177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2"/>
              <p:cNvSpPr/>
              <p:nvPr/>
            </p:nvSpPr>
            <p:spPr>
              <a:xfrm>
                <a:off x="7845480" y="3213000"/>
                <a:ext cx="830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ctangle 3">
              <a:hlinkClick r:id="rId5"/>
            </p:cNvPr>
            <p:cNvSpPr/>
            <p:nvPr/>
          </p:nvSpPr>
          <p:spPr>
            <a:xfrm>
              <a:off x="7885080" y="3213000"/>
              <a:ext cx="574560" cy="1425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">
              <a:hlinkClick r:id="rId6"/>
            </p:cNvPr>
            <p:cNvSpPr/>
            <p:nvPr/>
          </p:nvSpPr>
          <p:spPr>
            <a:xfrm>
              <a:off x="7956360" y="5300640"/>
              <a:ext cx="64764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Line 13"/>
          <p:cNvSpPr/>
          <p:nvPr/>
        </p:nvSpPr>
        <p:spPr>
          <a:xfrm flipV="1">
            <a:off x="5003640" y="4508640"/>
            <a:ext cx="1944720" cy="288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5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Ymlusgiai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032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Gwaed o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Dod i’r wyneb i anad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Crwban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Madfall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Crocodeilia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Nadroe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2"/>
          <p:cNvGrpSpPr/>
          <p:nvPr/>
        </p:nvGrpSpPr>
        <p:grpSpPr>
          <a:xfrm>
            <a:off x="4643280" y="4365720"/>
            <a:ext cx="1895760" cy="1392840"/>
            <a:chOff x="4643280" y="4365720"/>
            <a:chExt cx="1895760" cy="1392840"/>
          </a:xfrm>
        </p:grpSpPr>
        <p:pic>
          <p:nvPicPr>
            <p:cNvPr id="259" name="Picture 11" descr="320px-Saltwater_crocodile"/>
            <p:cNvPicPr/>
            <p:nvPr/>
          </p:nvPicPr>
          <p:blipFill>
            <a:blip r:embed="rId1"/>
            <a:stretch/>
          </p:blipFill>
          <p:spPr>
            <a:xfrm>
              <a:off x="4643280" y="4365720"/>
              <a:ext cx="18241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12"/>
            <p:cNvSpPr/>
            <p:nvPr/>
          </p:nvSpPr>
          <p:spPr>
            <a:xfrm>
              <a:off x="5581080" y="53902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fvanrenterghem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5"/>
          <p:cNvGrpSpPr/>
          <p:nvPr/>
        </p:nvGrpSpPr>
        <p:grpSpPr>
          <a:xfrm>
            <a:off x="6443640" y="1916280"/>
            <a:ext cx="2508480" cy="1663200"/>
            <a:chOff x="6443640" y="1916280"/>
            <a:chExt cx="2508480" cy="1663200"/>
          </a:xfrm>
        </p:grpSpPr>
        <p:pic>
          <p:nvPicPr>
            <p:cNvPr id="262" name="Picture 14" descr="6885480972_470598d871"/>
            <p:cNvPicPr/>
            <p:nvPr/>
          </p:nvPicPr>
          <p:blipFill>
            <a:blip r:embed="rId2"/>
            <a:stretch/>
          </p:blipFill>
          <p:spPr>
            <a:xfrm>
              <a:off x="6443640" y="1916280"/>
              <a:ext cx="245736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Rectangle 15"/>
            <p:cNvSpPr/>
            <p:nvPr/>
          </p:nvSpPr>
          <p:spPr>
            <a:xfrm>
              <a:off x="8173800" y="3211200"/>
              <a:ext cx="77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blinkingidiot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3"/>
          <p:cNvGrpSpPr/>
          <p:nvPr/>
        </p:nvGrpSpPr>
        <p:grpSpPr>
          <a:xfrm>
            <a:off x="6588000" y="3789360"/>
            <a:ext cx="2154240" cy="1519920"/>
            <a:chOff x="6588000" y="3789360"/>
            <a:chExt cx="2154240" cy="1519920"/>
          </a:xfrm>
        </p:grpSpPr>
        <p:pic>
          <p:nvPicPr>
            <p:cNvPr id="265" name="Picture 17" descr="Yellow Bellied Sea Snake. Isla Coiba, Panama"/>
            <p:cNvPicPr/>
            <p:nvPr/>
          </p:nvPicPr>
          <p:blipFill>
            <a:blip r:embed="rId3"/>
            <a:stretch/>
          </p:blipFill>
          <p:spPr>
            <a:xfrm>
              <a:off x="6588000" y="3789360"/>
              <a:ext cx="215424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18"/>
            <p:cNvSpPr/>
            <p:nvPr/>
          </p:nvSpPr>
          <p:spPr>
            <a:xfrm>
              <a:off x="7885800" y="494100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timemachin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4211640" y="2708280"/>
            <a:ext cx="2025360" cy="1519920"/>
            <a:chOff x="4211640" y="2708280"/>
            <a:chExt cx="2025360" cy="1519920"/>
          </a:xfrm>
        </p:grpSpPr>
        <p:pic>
          <p:nvPicPr>
            <p:cNvPr id="268" name="Picture 20" descr="2269657255_b3d901098e"/>
            <p:cNvPicPr/>
            <p:nvPr/>
          </p:nvPicPr>
          <p:blipFill>
            <a:blip r:embed="rId4"/>
            <a:stretch/>
          </p:blipFill>
          <p:spPr>
            <a:xfrm>
              <a:off x="4211640" y="2708280"/>
              <a:ext cx="20239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21"/>
            <p:cNvSpPr/>
            <p:nvPr/>
          </p:nvSpPr>
          <p:spPr>
            <a:xfrm>
              <a:off x="5292720" y="38599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Cheryl Jackso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1">
            <a:hlinkClick r:id="rId5"/>
          </p:cNvPr>
          <p:cNvSpPr/>
          <p:nvPr/>
        </p:nvSpPr>
        <p:spPr>
          <a:xfrm>
            <a:off x="5364000" y="4076640"/>
            <a:ext cx="792360" cy="730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>
            <a:hlinkClick r:id="rId6"/>
          </p:cNvPr>
          <p:cNvSpPr/>
          <p:nvPr/>
        </p:nvSpPr>
        <p:spPr>
          <a:xfrm>
            <a:off x="5651640" y="5589720"/>
            <a:ext cx="79200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>
            <a:hlinkClick r:id="rId7"/>
          </p:cNvPr>
          <p:cNvSpPr/>
          <p:nvPr/>
        </p:nvSpPr>
        <p:spPr>
          <a:xfrm>
            <a:off x="7956720" y="5084640"/>
            <a:ext cx="647640" cy="144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>
            <a:hlinkClick r:id="rId8"/>
          </p:cNvPr>
          <p:cNvSpPr/>
          <p:nvPr/>
        </p:nvSpPr>
        <p:spPr>
          <a:xfrm>
            <a:off x="8244000" y="3357720"/>
            <a:ext cx="576000" cy="1425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5"/>
          <p:cNvGrpSpPr/>
          <p:nvPr/>
        </p:nvGrpSpPr>
        <p:grpSpPr>
          <a:xfrm>
            <a:off x="6156360" y="1628640"/>
            <a:ext cx="1946160" cy="4175280"/>
            <a:chOff x="6156360" y="1628640"/>
            <a:chExt cx="1946160" cy="4175280"/>
          </a:xfrm>
        </p:grpSpPr>
        <p:pic>
          <p:nvPicPr>
            <p:cNvPr id="275" name="Picture 2" descr=""/>
            <p:cNvPicPr/>
            <p:nvPr/>
          </p:nvPicPr>
          <p:blipFill>
            <a:blip r:embed="rId1"/>
            <a:stretch/>
          </p:blipFill>
          <p:spPr>
            <a:xfrm>
              <a:off x="6228000" y="4365720"/>
              <a:ext cx="1800000" cy="135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87" descr="Formby point and barn owls 009"/>
            <p:cNvPicPr/>
            <p:nvPr/>
          </p:nvPicPr>
          <p:blipFill>
            <a:blip r:embed="rId2"/>
            <a:stretch/>
          </p:blipFill>
          <p:spPr>
            <a:xfrm>
              <a:off x="6229080" y="1628640"/>
              <a:ext cx="1800360" cy="13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88" descr="flickr-3658339290-original"/>
            <p:cNvPicPr/>
            <p:nvPr/>
          </p:nvPicPr>
          <p:blipFill>
            <a:blip r:embed="rId3"/>
            <a:stretch/>
          </p:blipFill>
          <p:spPr>
            <a:xfrm>
              <a:off x="6229080" y="3068640"/>
              <a:ext cx="180036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tangle 89"/>
            <p:cNvSpPr/>
            <p:nvPr/>
          </p:nvSpPr>
          <p:spPr>
            <a:xfrm>
              <a:off x="6229080" y="256536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Shell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0"/>
            <p:cNvSpPr/>
            <p:nvPr/>
          </p:nvSpPr>
          <p:spPr>
            <a:xfrm>
              <a:off x="6156360" y="3932280"/>
              <a:ext cx="1946160" cy="36036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Octopus &amp; s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92"/>
            <p:cNvSpPr/>
            <p:nvPr/>
          </p:nvSpPr>
          <p:spPr>
            <a:xfrm>
              <a:off x="6229080" y="537228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Sea sna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93"/>
            <p:cNvSpPr/>
            <p:nvPr/>
          </p:nvSpPr>
          <p:spPr>
            <a:xfrm>
              <a:off x="7208640" y="3068640"/>
              <a:ext cx="81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Morten Brekkevol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"/>
            <p:cNvSpPr/>
            <p:nvPr/>
          </p:nvSpPr>
          <p:spPr>
            <a:xfrm>
              <a:off x="7308720" y="3141360"/>
              <a:ext cx="576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93"/>
            <p:cNvSpPr/>
            <p:nvPr/>
          </p:nvSpPr>
          <p:spPr>
            <a:xfrm>
              <a:off x="7383240" y="4365720"/>
              <a:ext cx="627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Jeremy Pr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3"/>
            <p:cNvSpPr/>
            <p:nvPr/>
          </p:nvSpPr>
          <p:spPr>
            <a:xfrm>
              <a:off x="7451640" y="4437000"/>
              <a:ext cx="50472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86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Anifeiliaid di-asgwrn-cef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8"/>
          <p:cNvGrpSpPr/>
          <p:nvPr/>
        </p:nvGrpSpPr>
        <p:grpSpPr>
          <a:xfrm>
            <a:off x="6084720" y="1700280"/>
            <a:ext cx="2043360" cy="3969000"/>
            <a:chOff x="6084720" y="1700280"/>
            <a:chExt cx="2043360" cy="3969000"/>
          </a:xfrm>
        </p:grpSpPr>
        <p:pic>
          <p:nvPicPr>
            <p:cNvPr id="292" name="Picture 95" descr="2394983702_7945bdf1cb"/>
            <p:cNvPicPr/>
            <p:nvPr/>
          </p:nvPicPr>
          <p:blipFill>
            <a:blip r:embed="rId4"/>
            <a:stretch/>
          </p:blipFill>
          <p:spPr>
            <a:xfrm>
              <a:off x="6229080" y="4437360"/>
              <a:ext cx="18007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96"/>
            <p:cNvSpPr/>
            <p:nvPr/>
          </p:nvSpPr>
          <p:spPr>
            <a:xfrm>
              <a:off x="6157440" y="530100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Barnac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97"/>
            <p:cNvSpPr/>
            <p:nvPr/>
          </p:nvSpPr>
          <p:spPr>
            <a:xfrm>
              <a:off x="7566480" y="443736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Mo Riz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5" name="Picture 98" descr="3118780837_82b181761c"/>
            <p:cNvPicPr/>
            <p:nvPr/>
          </p:nvPicPr>
          <p:blipFill>
            <a:blip r:embed="rId5"/>
            <a:stretch/>
          </p:blipFill>
          <p:spPr>
            <a:xfrm>
              <a:off x="6229080" y="3140280"/>
              <a:ext cx="180072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99"/>
            <p:cNvSpPr/>
            <p:nvPr/>
          </p:nvSpPr>
          <p:spPr>
            <a:xfrm>
              <a:off x="7443720" y="3140280"/>
              <a:ext cx="65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Michelle R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00"/>
            <p:cNvSpPr/>
            <p:nvPr/>
          </p:nvSpPr>
          <p:spPr>
            <a:xfrm>
              <a:off x="6157440" y="400536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Prawns &amp; shri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101" descr="Arge edible crab"/>
            <p:cNvPicPr/>
            <p:nvPr/>
          </p:nvPicPr>
          <p:blipFill>
            <a:blip r:embed="rId6"/>
            <a:stretch/>
          </p:blipFill>
          <p:spPr>
            <a:xfrm>
              <a:off x="6229080" y="1700280"/>
              <a:ext cx="180072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102"/>
            <p:cNvSpPr/>
            <p:nvPr/>
          </p:nvSpPr>
          <p:spPr>
            <a:xfrm>
              <a:off x="6084720" y="2701800"/>
              <a:ext cx="2043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Crabs &amp; lob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524720" y="3213000"/>
              <a:ext cx="50472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7669440" y="4508640"/>
              <a:ext cx="287280" cy="71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1"/>
          <p:cNvGrpSpPr/>
          <p:nvPr/>
        </p:nvGrpSpPr>
        <p:grpSpPr>
          <a:xfrm>
            <a:off x="6227640" y="1700280"/>
            <a:ext cx="1872000" cy="3928320"/>
            <a:chOff x="6227640" y="1700280"/>
            <a:chExt cx="1872000" cy="3928320"/>
          </a:xfrm>
        </p:grpSpPr>
        <p:grpSp>
          <p:nvGrpSpPr>
            <p:cNvPr id="303" name="Group 103"/>
            <p:cNvGrpSpPr/>
            <p:nvPr/>
          </p:nvGrpSpPr>
          <p:grpSpPr>
            <a:xfrm>
              <a:off x="6227640" y="1700280"/>
              <a:ext cx="1872000" cy="3928320"/>
              <a:chOff x="6227640" y="1700280"/>
              <a:chExt cx="1872000" cy="3928320"/>
            </a:xfrm>
          </p:grpSpPr>
          <p:pic>
            <p:nvPicPr>
              <p:cNvPr id="304" name="Picture 104" descr="MarineSpecies16_(CCWSMNR)"/>
              <p:cNvPicPr/>
              <p:nvPr/>
            </p:nvPicPr>
            <p:blipFill>
              <a:blip r:embed="rId7"/>
              <a:stretch/>
            </p:blipFill>
            <p:spPr>
              <a:xfrm>
                <a:off x="6227640" y="1719000"/>
                <a:ext cx="1800360" cy="117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5" name="Group 105"/>
              <p:cNvGrpSpPr/>
              <p:nvPr/>
            </p:nvGrpSpPr>
            <p:grpSpPr>
              <a:xfrm>
                <a:off x="6227640" y="2531880"/>
                <a:ext cx="1872000" cy="3096720"/>
                <a:chOff x="6227640" y="2531880"/>
                <a:chExt cx="1872000" cy="3096720"/>
              </a:xfrm>
            </p:grpSpPr>
            <p:sp>
              <p:nvSpPr>
                <p:cNvPr id="306" name="Text Box 106"/>
                <p:cNvSpPr/>
                <p:nvPr/>
              </p:nvSpPr>
              <p:spPr>
                <a:xfrm>
                  <a:off x="6227640" y="253188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</a:rPr>
                    <a:t>Starfis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7" name="Picture 107" descr="101734831_349501719a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227640" y="2945520"/>
                  <a:ext cx="1800360" cy="130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Text Box 108"/>
                <p:cNvSpPr/>
                <p:nvPr/>
              </p:nvSpPr>
              <p:spPr>
                <a:xfrm>
                  <a:off x="6227640" y="388224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</a:rPr>
                    <a:t>Sea urchi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109"/>
                <p:cNvSpPr/>
                <p:nvPr/>
              </p:nvSpPr>
              <p:spPr>
                <a:xfrm>
                  <a:off x="7371720" y="2963160"/>
                  <a:ext cx="7246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</a:rPr>
                    <a:t>Absjorn Hansen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0" name="Picture 110" descr="sep_27_2398_sea_cucumber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227640" y="4314240"/>
                  <a:ext cx="1800360" cy="130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Text Box 111"/>
                <p:cNvSpPr/>
                <p:nvPr/>
              </p:nvSpPr>
              <p:spPr>
                <a:xfrm>
                  <a:off x="6227640" y="526032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</a:rPr>
                    <a:t>Sea cuc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Text Box 112"/>
                <p:cNvSpPr/>
                <p:nvPr/>
              </p:nvSpPr>
              <p:spPr>
                <a:xfrm>
                  <a:off x="7407000" y="4331520"/>
                  <a:ext cx="6926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</a:rPr>
                    <a:t>Frank Starmer 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Text Box 113"/>
              <p:cNvSpPr/>
              <p:nvPr/>
            </p:nvSpPr>
            <p:spPr>
              <a:xfrm>
                <a:off x="6948360" y="1700280"/>
                <a:ext cx="108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" spc="-1" strike="noStrike">
                    <a:solidFill>
                      <a:srgbClr val="ffffff"/>
                    </a:solidFill>
                    <a:latin typeface="Arial"/>
                  </a:rPr>
                  <a:t>Natural Resources Wale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9">
              <a:hlinkClick r:id="rId10"/>
            </p:cNvPr>
            <p:cNvSpPr/>
            <p:nvPr/>
          </p:nvSpPr>
          <p:spPr>
            <a:xfrm>
              <a:off x="7451640" y="2995560"/>
              <a:ext cx="50472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">
              <a:hlinkClick r:id="rId11"/>
            </p:cNvPr>
            <p:cNvSpPr/>
            <p:nvPr/>
          </p:nvSpPr>
          <p:spPr>
            <a:xfrm>
              <a:off x="7451640" y="4363920"/>
              <a:ext cx="504720" cy="144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8"/>
          <p:cNvGrpSpPr/>
          <p:nvPr/>
        </p:nvGrpSpPr>
        <p:grpSpPr>
          <a:xfrm>
            <a:off x="6156360" y="1700280"/>
            <a:ext cx="2016000" cy="3897360"/>
            <a:chOff x="6156360" y="1700280"/>
            <a:chExt cx="2016000" cy="3897360"/>
          </a:xfrm>
        </p:grpSpPr>
        <p:pic>
          <p:nvPicPr>
            <p:cNvPr id="317" name="Picture 12" descr=""/>
            <p:cNvPicPr/>
            <p:nvPr/>
          </p:nvPicPr>
          <p:blipFill>
            <a:blip r:embed="rId12"/>
            <a:stretch/>
          </p:blipFill>
          <p:spPr>
            <a:xfrm>
              <a:off x="6228360" y="1724760"/>
              <a:ext cx="1800360" cy="119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16"/>
            <p:cNvSpPr/>
            <p:nvPr/>
          </p:nvSpPr>
          <p:spPr>
            <a:xfrm>
              <a:off x="6227640" y="256392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Jell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Picture 118" descr="3405241268_d1afe3c902"/>
            <p:cNvPicPr/>
            <p:nvPr/>
          </p:nvPicPr>
          <p:blipFill>
            <a:blip r:embed="rId13"/>
            <a:stretch/>
          </p:blipFill>
          <p:spPr>
            <a:xfrm>
              <a:off x="6227640" y="2996280"/>
              <a:ext cx="180036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119"/>
            <p:cNvSpPr/>
            <p:nvPr/>
          </p:nvSpPr>
          <p:spPr>
            <a:xfrm>
              <a:off x="6227640" y="393372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Anem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20"/>
            <p:cNvSpPr/>
            <p:nvPr/>
          </p:nvSpPr>
          <p:spPr>
            <a:xfrm>
              <a:off x="7367760" y="2997000"/>
              <a:ext cx="72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Miss Barabanov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Picture 121" descr="Coral_Reef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6227640" y="4365360"/>
              <a:ext cx="18003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122"/>
            <p:cNvSpPr/>
            <p:nvPr/>
          </p:nvSpPr>
          <p:spPr>
            <a:xfrm>
              <a:off x="6156360" y="5229360"/>
              <a:ext cx="201600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Co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23"/>
            <p:cNvSpPr/>
            <p:nvPr/>
          </p:nvSpPr>
          <p:spPr>
            <a:xfrm>
              <a:off x="7435440" y="4365720"/>
              <a:ext cx="66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</a:rPr>
                <a:t>Ian Roberts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14"/>
            <p:cNvSpPr/>
            <p:nvPr/>
          </p:nvSpPr>
          <p:spPr>
            <a:xfrm>
              <a:off x="7311600" y="1700280"/>
              <a:ext cx="75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Brocken Inaglo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5">
              <a:hlinkClick r:id="rId16"/>
            </p:cNvPr>
            <p:cNvSpPr/>
            <p:nvPr/>
          </p:nvSpPr>
          <p:spPr>
            <a:xfrm>
              <a:off x="7380360" y="1771560"/>
              <a:ext cx="576000" cy="72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6">
              <a:hlinkClick r:id="rId17"/>
            </p:cNvPr>
            <p:cNvSpPr/>
            <p:nvPr/>
          </p:nvSpPr>
          <p:spPr>
            <a:xfrm>
              <a:off x="7451640" y="3068640"/>
              <a:ext cx="50472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7">
              <a:hlinkClick r:id="rId18"/>
            </p:cNvPr>
            <p:cNvSpPr/>
            <p:nvPr/>
          </p:nvSpPr>
          <p:spPr>
            <a:xfrm>
              <a:off x="7451640" y="4437000"/>
              <a:ext cx="50472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26"/>
          <p:cNvGrpSpPr/>
          <p:nvPr/>
        </p:nvGrpSpPr>
        <p:grpSpPr>
          <a:xfrm>
            <a:off x="6227640" y="1628640"/>
            <a:ext cx="1867320" cy="4104000"/>
            <a:chOff x="6227640" y="1628640"/>
            <a:chExt cx="1867320" cy="4104000"/>
          </a:xfrm>
        </p:grpSpPr>
        <p:pic>
          <p:nvPicPr>
            <p:cNvPr id="330" name="Picture 19" descr=""/>
            <p:cNvPicPr/>
            <p:nvPr/>
          </p:nvPicPr>
          <p:blipFill>
            <a:blip r:embed="rId19"/>
            <a:stretch/>
          </p:blipFill>
          <p:spPr>
            <a:xfrm>
              <a:off x="6227640" y="1628640"/>
              <a:ext cx="181728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Box 20"/>
            <p:cNvSpPr/>
            <p:nvPr/>
          </p:nvSpPr>
          <p:spPr>
            <a:xfrm>
              <a:off x="7328880" y="1628640"/>
              <a:ext cx="766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ylvia Duckwort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>
              <a:off x="7396200" y="1699920"/>
              <a:ext cx="57636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22" descr=""/>
            <p:cNvPicPr/>
            <p:nvPr/>
          </p:nvPicPr>
          <p:blipFill>
            <a:blip r:embed="rId20"/>
            <a:stretch/>
          </p:blipFill>
          <p:spPr>
            <a:xfrm>
              <a:off x="6243840" y="3039840"/>
              <a:ext cx="1800720" cy="132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Rectangle 23">
              <a:hlinkClick r:id="rId21"/>
            </p:cNvPr>
            <p:cNvSpPr/>
            <p:nvPr/>
          </p:nvSpPr>
          <p:spPr>
            <a:xfrm>
              <a:off x="7540560" y="3139920"/>
              <a:ext cx="360360" cy="144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Picture 24" descr=""/>
            <p:cNvPicPr/>
            <p:nvPr/>
          </p:nvPicPr>
          <p:blipFill>
            <a:blip r:embed="rId22"/>
            <a:stretch/>
          </p:blipFill>
          <p:spPr>
            <a:xfrm>
              <a:off x="6243840" y="4405320"/>
              <a:ext cx="1800720" cy="13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5">
              <a:hlinkClick r:id="rId23"/>
            </p:cNvPr>
            <p:cNvSpPr/>
            <p:nvPr/>
          </p:nvSpPr>
          <p:spPr>
            <a:xfrm>
              <a:off x="7540560" y="4508640"/>
              <a:ext cx="431640" cy="144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Does gan yr anifeiliaid yma ddim asgwrn cef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Llawer o greaduriaid rhyfed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Prif fath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Molysgi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Crameno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Ecinodermi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Cnidari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333399"/>
                </a:solidFill>
                <a:latin typeface="Arial"/>
              </a:rPr>
              <a:t>Pryfaid genw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33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Crynod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Dydi’r moroedd i gyd ddim yr un fa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Mae moroedd yn llawn bywy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Rydych chi rŵan wedi gweld rhai o’r cynefinoedd a’r anifeiliaid sydd yn y mô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</a:rPr>
              <a:t>A rhai o’r creaduriaid bach eraill sy’n byw y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800" spc="-1" strike="noStrike">
                <a:solidFill>
                  <a:srgbClr val="333399"/>
                </a:solidFill>
                <a:latin typeface="Arial"/>
              </a:rPr>
              <a:t>Gyda’ch ffrindiau, treuliwch ychydig o funudau yn siarad am y pethau rydych chi wedi eu dys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Mae’r rhan fwyaf o’n planed </a:t>
            </a:r>
            <a:br>
              <a:rPr sz="4400"/>
            </a:b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dan ddŵr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MC900438068[1]"/>
          <p:cNvPicPr/>
          <p:nvPr/>
        </p:nvPicPr>
        <p:blipFill>
          <a:blip r:embed="rId1"/>
          <a:stretch/>
        </p:blipFill>
        <p:spPr>
          <a:xfrm>
            <a:off x="2916360" y="220500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826920" y="206064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000" spc="-1" strike="noStrike">
                <a:solidFill>
                  <a:srgbClr val="333399"/>
                </a:solidFill>
                <a:latin typeface="Arial"/>
              </a:rPr>
              <a:t>Mae 70% o wyneb y Ddaear dan ddŵ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898560" y="436572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333399"/>
                </a:solidFill>
                <a:latin typeface="Arial"/>
              </a:rPr>
              <a:t>Mae 97% o’r dŵr yn ddŵr mô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6516720" y="198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333399"/>
                </a:solidFill>
                <a:latin typeface="Arial"/>
              </a:rPr>
              <a:t>Dyma </a:t>
            </a:r>
            <a:r>
              <a:rPr b="1" lang="cy-GB" sz="2000" spc="-1" strike="noStrike">
                <a:solidFill>
                  <a:srgbClr val="333399"/>
                </a:solidFill>
                <a:latin typeface="Arial"/>
              </a:rPr>
              <a:t>Cym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5292720" y="2421000"/>
            <a:ext cx="1511280" cy="107928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37236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333399"/>
                </a:solidFill>
                <a:latin typeface="Arial"/>
              </a:rPr>
              <a:t>Rydym ni wedi ein hamgylchynu gan </a:t>
            </a:r>
            <a:r>
              <a:rPr b="1" lang="cy-GB" sz="1800" spc="-1" strike="noStrike">
                <a:solidFill>
                  <a:srgbClr val="333399"/>
                </a:solidFill>
                <a:latin typeface="Arial"/>
              </a:rPr>
              <a:t>Gefnfor yr Iwery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Lle mae creaduriaid y môr yn by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n union fel y tir, mae’r môr yn cynnwys nifer o gynefinoedd gwah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pob cynefin yn gartref i amrywiaeth o blanhigion ac anifeili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amodau fel tymheredd, dyfnder a cherrynt dŵr yn effeithio ar ble gall rhywogaethau fy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’r sleidiau nesaf yn edrych ar </a:t>
            </a:r>
            <a:r>
              <a:rPr b="1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gynefinoedd cefnforoe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Cynefinoedd – Coedwigoedd Môr-wi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th o wymon ydi môr-wi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coedwigoedd anferthol tanddwr yn amsugno carbon deuoc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pysgod a rhywogaethau eraill yn byw rhwng y môr-wi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"/>
          <p:cNvGrpSpPr/>
          <p:nvPr/>
        </p:nvGrpSpPr>
        <p:grpSpPr>
          <a:xfrm>
            <a:off x="4716360" y="2133720"/>
            <a:ext cx="4103640" cy="2962080"/>
            <a:chOff x="4716360" y="2133720"/>
            <a:chExt cx="4103640" cy="2962080"/>
          </a:xfrm>
        </p:grpSpPr>
        <p:grpSp>
          <p:nvGrpSpPr>
            <p:cNvPr id="76" name="Group 11"/>
            <p:cNvGrpSpPr/>
            <p:nvPr/>
          </p:nvGrpSpPr>
          <p:grpSpPr>
            <a:xfrm>
              <a:off x="4716360" y="2133720"/>
              <a:ext cx="4103640" cy="2962080"/>
              <a:chOff x="4716360" y="2133720"/>
              <a:chExt cx="4103640" cy="2962080"/>
            </a:xfrm>
          </p:grpSpPr>
          <p:pic>
            <p:nvPicPr>
              <p:cNvPr id="77" name="Picture 9" descr="6829273296_6c2e18b835_c"/>
              <p:cNvPicPr/>
              <p:nvPr/>
            </p:nvPicPr>
            <p:blipFill>
              <a:blip r:embed="rId1"/>
              <a:stretch/>
            </p:blipFill>
            <p:spPr>
              <a:xfrm>
                <a:off x="4716360" y="2133720"/>
                <a:ext cx="3948120" cy="29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Text Box 10"/>
              <p:cNvSpPr/>
              <p:nvPr/>
            </p:nvSpPr>
            <p:spPr>
              <a:xfrm>
                <a:off x="8028000" y="4869000"/>
                <a:ext cx="79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saspot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ectangle 11">
              <a:hlinkClick r:id="rId2"/>
            </p:cNvPr>
            <p:cNvSpPr/>
            <p:nvPr/>
          </p:nvSpPr>
          <p:spPr>
            <a:xfrm>
              <a:off x="8101080" y="4869000"/>
              <a:ext cx="50292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1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Cynefinoedd – Riffiau Cwr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ewn dyfroedd cynnes trofan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Cartref miloedd o rywogaethau gwah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 Barriff Mawr oddi ar arfordir Awstralia ydi’r riff cwrel mwyaf yn y by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’n gartref i 1,500 math o bysgody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Crwbanod, siarcod, dolffiniaid a morfil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5435640" y="1628640"/>
            <a:ext cx="3313080" cy="4111920"/>
            <a:chOff x="5435640" y="1628640"/>
            <a:chExt cx="3313080" cy="4111920"/>
          </a:xfrm>
        </p:grpSpPr>
        <p:grpSp>
          <p:nvGrpSpPr>
            <p:cNvPr id="88" name="Group 11"/>
            <p:cNvGrpSpPr/>
            <p:nvPr/>
          </p:nvGrpSpPr>
          <p:grpSpPr>
            <a:xfrm>
              <a:off x="5435640" y="1628640"/>
              <a:ext cx="3313080" cy="4111920"/>
              <a:chOff x="5435640" y="1628640"/>
              <a:chExt cx="3313080" cy="4111920"/>
            </a:xfrm>
          </p:grpSpPr>
          <p:pic>
            <p:nvPicPr>
              <p:cNvPr id="89" name="Picture 10" descr="Coral reef - Nick Hobgood"/>
              <p:cNvPicPr/>
              <p:nvPr/>
            </p:nvPicPr>
            <p:blipFill>
              <a:blip r:embed="rId1"/>
              <a:stretch/>
            </p:blipFill>
            <p:spPr>
              <a:xfrm>
                <a:off x="5435640" y="1628640"/>
                <a:ext cx="3227400" cy="41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11"/>
              <p:cNvSpPr/>
              <p:nvPr/>
            </p:nvSpPr>
            <p:spPr>
              <a:xfrm>
                <a:off x="7885080" y="551664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1">
              <a:hlinkClick r:id="rId2"/>
            </p:cNvPr>
            <p:cNvSpPr/>
            <p:nvPr/>
          </p:nvSpPr>
          <p:spPr>
            <a:xfrm>
              <a:off x="7956720" y="5517000"/>
              <a:ext cx="71892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3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Cynefinoedd – Y Môr Ago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3308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illtir ar ôl milltir o fô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mhell oddi wrth yr arfor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rhai o anifeiliaid mwyaf y byd yn byw yma e.e. morfil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4932360" y="2492280"/>
            <a:ext cx="3705120" cy="2478240"/>
            <a:chOff x="4932360" y="2492280"/>
            <a:chExt cx="3705120" cy="2478240"/>
          </a:xfrm>
        </p:grpSpPr>
        <p:pic>
          <p:nvPicPr>
            <p:cNvPr id="100" name="Picture 1" descr=""/>
            <p:cNvPicPr/>
            <p:nvPr/>
          </p:nvPicPr>
          <p:blipFill>
            <a:blip r:embed="rId1"/>
            <a:stretch/>
          </p:blipFill>
          <p:spPr>
            <a:xfrm>
              <a:off x="4932360" y="2492280"/>
              <a:ext cx="370512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3"/>
            <p:cNvSpPr/>
            <p:nvPr/>
          </p:nvSpPr>
          <p:spPr>
            <a:xfrm>
              <a:off x="7816680" y="4724640"/>
              <a:ext cx="80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iago Fiorez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>
              <a:hlinkClick r:id="rId2"/>
            </p:cNvPr>
            <p:cNvSpPr/>
            <p:nvPr/>
          </p:nvSpPr>
          <p:spPr>
            <a:xfrm>
              <a:off x="7883640" y="4724640"/>
              <a:ext cx="72072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04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Cynefinoedd – Y Dyfn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330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Yn ddwfn yn y môr mae rhai o greaduriaid rhyfeddaf y by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n nhw’n byw yn y tywyllw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rhai yn gwneud eu golau eu hun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Isopod dyfnfor ydi’r creadur y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572000" y="4221000"/>
            <a:ext cx="1440000" cy="1152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5076720" y="2386080"/>
            <a:ext cx="4067280" cy="2968560"/>
            <a:chOff x="5076720" y="2386080"/>
            <a:chExt cx="4067280" cy="2968560"/>
          </a:xfrm>
        </p:grpSpPr>
        <p:grpSp>
          <p:nvGrpSpPr>
            <p:cNvPr id="112" name="Group 12"/>
            <p:cNvGrpSpPr/>
            <p:nvPr/>
          </p:nvGrpSpPr>
          <p:grpSpPr>
            <a:xfrm>
              <a:off x="5076720" y="2386080"/>
              <a:ext cx="4067280" cy="2968560"/>
              <a:chOff x="5076720" y="2386080"/>
              <a:chExt cx="4067280" cy="2968560"/>
            </a:xfrm>
          </p:grpSpPr>
          <p:pic>
            <p:nvPicPr>
              <p:cNvPr id="113" name="Picture 12" descr="380353_028542ead3_z"/>
              <p:cNvPicPr/>
              <p:nvPr/>
            </p:nvPicPr>
            <p:blipFill>
              <a:blip r:embed="rId1"/>
              <a:stretch/>
            </p:blipFill>
            <p:spPr>
              <a:xfrm>
                <a:off x="5076720" y="2386080"/>
                <a:ext cx="3959280" cy="29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10"/>
              <p:cNvSpPr/>
              <p:nvPr/>
            </p:nvSpPr>
            <p:spPr>
              <a:xfrm>
                <a:off x="8172360" y="5084640"/>
                <a:ext cx="97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Damien du To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1">
              <a:hlinkClick r:id="rId2"/>
            </p:cNvPr>
            <p:cNvSpPr/>
            <p:nvPr/>
          </p:nvSpPr>
          <p:spPr>
            <a:xfrm>
              <a:off x="8172360" y="5013360"/>
              <a:ext cx="863640" cy="2872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7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Cynefinoedd– Yr Ardal Rhynglan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554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‘rhynglanw’ yn              golygu rhwng y llanw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Dyma’r ardal ar y lan                   sydd dan ddŵr ar           benllanw ond yn y              golwg pan fo’r môr ar            d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Dyma’r lle hawsaf i             fforio bywyd gwyllt y mô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Traethau, pyllau glan môr a gwastadeddau ll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643280" y="2205000"/>
            <a:ext cx="4240440" cy="2808360"/>
            <a:chOff x="4643280" y="2205000"/>
            <a:chExt cx="4240440" cy="2808360"/>
          </a:xfrm>
        </p:grpSpPr>
        <p:pic>
          <p:nvPicPr>
            <p:cNvPr id="124" name="Picture 1" descr=""/>
            <p:cNvPicPr/>
            <p:nvPr/>
          </p:nvPicPr>
          <p:blipFill>
            <a:blip r:embed="rId1"/>
            <a:stretch/>
          </p:blipFill>
          <p:spPr>
            <a:xfrm>
              <a:off x="4643280" y="2205000"/>
              <a:ext cx="424044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2"/>
            <p:cNvSpPr/>
            <p:nvPr/>
          </p:nvSpPr>
          <p:spPr>
            <a:xfrm>
              <a:off x="7744320" y="4797360"/>
              <a:ext cx="110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tephen Middlem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">
              <a:hlinkClick r:id="rId2"/>
            </p:cNvPr>
            <p:cNvSpPr/>
            <p:nvPr/>
          </p:nvSpPr>
          <p:spPr>
            <a:xfrm>
              <a:off x="7740720" y="4797720"/>
              <a:ext cx="108108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8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>
                <a:gd name="textAreaLeft" fmla="*/ 0 w 9288360"/>
                <a:gd name="textAreaRight" fmla="*/ 9288720 w 9288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333399"/>
                </a:solidFill>
                <a:latin typeface="Arial"/>
                <a:ea typeface="Arial"/>
              </a:rPr>
              <a:t>Cynefinoedd– Clogwyn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114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clogwyni ar yr arfordir yn hynod bwysig i adar sy’n nyt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miloedd o adar yn nythu gyda’i gilydd mewn nythfeydd maw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333399"/>
                </a:solidFill>
                <a:latin typeface="Arial"/>
                <a:ea typeface="Arial"/>
              </a:rPr>
              <a:t>Mae morloi yn magu eu lloi mewn cildraethau rhwng clogwy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"/>
          <p:cNvGrpSpPr/>
          <p:nvPr/>
        </p:nvGrpSpPr>
        <p:grpSpPr>
          <a:xfrm>
            <a:off x="4788000" y="2492280"/>
            <a:ext cx="4356000" cy="2754360"/>
            <a:chOff x="4788000" y="2492280"/>
            <a:chExt cx="4356000" cy="2754360"/>
          </a:xfrm>
        </p:grpSpPr>
        <p:grpSp>
          <p:nvGrpSpPr>
            <p:cNvPr id="135" name="Group 11"/>
            <p:cNvGrpSpPr/>
            <p:nvPr/>
          </p:nvGrpSpPr>
          <p:grpSpPr>
            <a:xfrm>
              <a:off x="4788000" y="2492280"/>
              <a:ext cx="4356000" cy="2754360"/>
              <a:chOff x="4788000" y="2492280"/>
              <a:chExt cx="4356000" cy="2754360"/>
            </a:xfrm>
          </p:grpSpPr>
          <p:pic>
            <p:nvPicPr>
              <p:cNvPr id="136" name="Picture 12" descr="Dingle_Cliffs"/>
              <p:cNvPicPr/>
              <p:nvPr/>
            </p:nvPicPr>
            <p:blipFill>
              <a:blip r:embed="rId1"/>
              <a:stretch/>
            </p:blipFill>
            <p:spPr>
              <a:xfrm>
                <a:off x="4788000" y="2492280"/>
                <a:ext cx="4140000" cy="27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10"/>
              <p:cNvSpPr/>
              <p:nvPr/>
            </p:nvSpPr>
            <p:spPr>
              <a:xfrm>
                <a:off x="8280360" y="501336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</a:rPr>
                  <a:t>Nietnag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Rectangle 1">
              <a:hlinkClick r:id="rId2"/>
            </p:cNvPr>
            <p:cNvSpPr/>
            <p:nvPr/>
          </p:nvSpPr>
          <p:spPr>
            <a:xfrm>
              <a:off x="8317080" y="5013360"/>
              <a:ext cx="57600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3:32:17Z</dcterms:created>
  <dc:creator>eli93093</dc:creator>
  <dc:description/>
  <dc:language>en-US</dc:language>
  <cp:lastModifiedBy>eli93093</cp:lastModifiedBy>
  <dcterms:modified xsi:type="dcterms:W3CDTF">2014-01-09T15:02:11Z</dcterms:modified>
  <cp:revision>51</cp:revision>
  <dc:subject/>
  <dc:title>Marine &amp; Coastal Biodiversity</dc:title>
</cp:coreProperties>
</file>