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y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8ED4-BB04-47F0-BDD3-CA5B469797E2}" type="slidenum">
              <a:rPr b="0" lang="cy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y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lfan Rhif y Sleid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9CD1-F28F-4DB9-B127-AA802CDF80E8}" type="slidenum">
              <a:rPr b="0" lang="cy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6D2-19D0-4EBD-9224-8D7FD112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602-12D8-4439-AA0C-79B0F6F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360-F131-48B4-9B9D-FE7BF878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C5D-23FB-4529-AAD8-FD7B8C88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9C3-EFC8-4329-B34D-98B6F3D1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519-68B4-4191-9915-DD80426B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E2A-4BA6-40A8-82C6-A94A5447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3B2-5276-4847-8B05-7ED0519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7BF-1FBB-449F-BBF3-CFC5D01D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0BF-F7C5-406F-AFA3-7B12601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8DE-ADD7-4A03-947B-0EA8DA5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814-78CA-47D9-86A9-6136160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68E3-0F14-4551-883A-B2AF15B18A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Bywyd Gwyllt </a:t>
            </a:r>
            <a:br>
              <a:rPr sz="5400"/>
            </a:br>
            <a:r>
              <a:rPr b="1" lang="cy-GB" sz="5400" spc="-1" strike="noStrike">
                <a:solidFill>
                  <a:srgbClr val="333399"/>
                </a:solidFill>
                <a:latin typeface="Arial"/>
              </a:rPr>
              <a:t>y Môr a’r Arford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333399"/>
                </a:solidFill>
                <a:latin typeface="Arial"/>
              </a:rPr>
              <a:t>Cw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9. Pa un o’r rhain na welwch chi ym moroedd Cymru?</a:t>
            </a:r>
            <a:r>
              <a:rPr b="0" lang="cy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imw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morlewod yn byw yn y rhan fwyaf o foroedd, ar wahân i Gefnfor yr Iwerydd. Mae’r holl rywogaethau eraill i’w canfod ym moroedd Cym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Crwban Lledrai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f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Morl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. Pa anifail sy’n rhyddhau inc i amddiffyn ei hun rhag ysglyfaethwyr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’r inc yn drysu ysglyfaethwyr ac yn rhoi amser i’r ystifflog ddianc. Mae môr-lewys (</a:t>
            </a:r>
            <a:r>
              <a:rPr b="0" i="1" lang="cy-GB" sz="1800" spc="-1" strike="noStrike">
                <a:solidFill>
                  <a:srgbClr val="333399"/>
                </a:solidFill>
                <a:latin typeface="Arial"/>
              </a:rPr>
              <a:t>squids</a:t>
            </a: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) ac octopysau hefyd yn gwneud h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Ystiff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1. Beth yw’r pysgodyn mwyaf ym moroedd Cymr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Gall heulforgi dyfu hyd 10 metr o hy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Heulfor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2. Pwy piau’r pig lliwgar y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pig aderyn y pâl yn fwy lliwgar fyth yn ystod y tymor bridio (gwanwyn a’r ha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deryn y Pâ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Pa un o’r rhain sydd ddim yn fa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Pysgodyn yw’r Heulforgi. Mae’r anifeiliaid eraill yn famali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Heulfo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olf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o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4. Beth ydi enw babis morlo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3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Lloi bach ydi enw babis morlo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8" name="Picture 22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23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15. Lle mae’r fôr-wenol fach yn mynd yn y gaea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Gorllewin Affrica. Maen nhw’n mudo yno ar gyfer y gaea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. Pa fath o nwy mae gwymon yn ei gynhyrchu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1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csi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Yn union fel coed, mae gwymon yn rhyddhau ocsigen i’r atmosffer ac yn amsugno carbon deuocs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2. Beth ydi ‘pwrs y fôr-forwyn’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333399"/>
                </a:solidFill>
                <a:latin typeface="Arial"/>
              </a:rPr>
              <a:t>Cas wy siarcod a chathod mô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siarcod a chathod môr bychain yn deori o’r wyau yma. Mae’r casus wedyn yn golchi i’r 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3. Ym mha begwn mae’r arth wen yn by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egwn y Gogle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’r eirth gwynion yn byw yn hemisffer y gogledd, gan gynnwys Canada, Norwy, Rwsia a’r Ynys Las. Dydyn nhw ddim yn byw ym Mhegwn y D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. Beth ydi enw torfol pysg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Haig o Bys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Enw torfol pysgod ydi haig. Gall un haig gynnwys miliynau o bysg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Beth yw’r aderyn môr mwy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333399"/>
                </a:solidFill>
                <a:latin typeface="Arial"/>
              </a:rPr>
              <a:t>Alba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Yr aderyn môr mwyaf ydi’r albatros, mae lled ei adenydd yn oddeutu 3.5 me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6. </a:t>
            </a: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Ai anifail neu blanhigyn ydi cwrel?</a:t>
            </a:r>
            <a:r>
              <a:rPr b="0" lang="cy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nif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pob “planhigyn” cwrel wedi ei wneud allan o filoedd o anifeiliaid bychain sy’n byw gyda’i gily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7. Beth mae môr-grwban yn fwyta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lefrenni Mô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900000" y="5805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môr-grwbanod yn bwyta slefrenni môr. Ond yn anffodus mae llawer o grwbanod yn marw pob blwyddyn ar ôl bwyta bagiau plastig mewn camgymeri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333399"/>
                </a:solidFill>
                <a:latin typeface="Arial"/>
              </a:rPr>
              <a:t>8. Sawl canran o’r Ddaear sydd dan ddŵ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Mae 70% o wyneb y Ddaear dan ddŵr. Mae oddeutu 97% o’r dŵr hwnnw yn ddŵr mô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4-01-09T14:57:07Z</dcterms:modified>
  <cp:revision>30</cp:revision>
  <dc:subject/>
  <dc:title>Marine &amp; Coastal Biodiversity</dc:title>
</cp:coreProperties>
</file>