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F6C-DF39-456B-A3D8-2E034EE8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BAC-07AE-4406-B297-961CA99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0B1-381B-44E7-86A3-443BFF10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6AD-FA49-4A54-8E64-7DB60DD5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53E-99D0-4620-A22D-499CCA0A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ED6-8B96-4DE4-A160-09926D1F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DF5-82E8-4972-86DC-5668D0C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988-7FDB-416C-B819-5A74F7F8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DAB-9078-457D-A253-51A1FF0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309-0933-402A-815A-7D6DB49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776-6FA5-4E4A-ABA8-1DD2174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1C4-4AAB-4784-BD00-05C4944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59A-CF89-4E6A-B7B7-FCDC349CF2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br>
              <a:rPr sz="5400"/>
            </a:b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of Wa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r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abs are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Very common on Welsh co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ind them in rock pools and on sandy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rd shell is known as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arapace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ront legs have pi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s molluscs, worms and other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ts of different species of jelly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portant food source for many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tentacles are used to catch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ome species the tentacles have powerful 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mmonly found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10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 tin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lankt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which they filter from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they migrate through the sea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sually so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re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 dangerous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mall seabirds with bright orange feet and colourfu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breed on coast, including parts of Angle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y single egg in 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nd winter out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small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8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864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bour porp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rpoises are related to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long most of the Welsh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st time to see them is between August and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 e.g. herring and macke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is reptile is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largest marin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mainly on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ome to Welsh seas in summer looking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reed on tropical beaches e.g.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itically endan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 ane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tacles have stinging barbs to capture small creatures like shri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t low tide anemones look like small blobs of jelly (the tentacles are hidd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ok for anemones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ey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40% of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population of Atlantic grey seals can be found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largest colonies on the Welsh coast are on islands off Pembroke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seals give birth during the autumn in isolated coves away from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aby seals are called p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Champ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ring g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ts almost any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hunt for fish such as herring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inds worms, crustaceans and molluscs on 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cavenges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so found inland, particularly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ometimes thought of as a pest in towns and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tar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predator of molluscs, worms and other star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underside of its arms is covered with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ucker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 locates its prey using its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coast of Wales, often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sea around Wales is called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 is part of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Wales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w you have seen some of the variety of marine life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variety is enormous: from tiny mussels and anemones to huge leatherback turtles and basking sha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ave you seen any of these animal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you think of any other creatures not mentio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Lives in 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s around Wales are rich in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different habitats like sandy shores, rocky shores, cliffs and reefs support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following slides explore some of the amazing creature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ose 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4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lligent, sociable and playful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in groups of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population is in Cardigan Bay (200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, shrimp and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 using echolocation (like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ttle 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is small seabird is found at only one site in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migrates to Africa each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returns to the same spot on Gronant beach to breed each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for sand eels in shallow coast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mu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se molluscs live in the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ter-tid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e tide is out you can find them on rocky s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by filtering seawater and extracting tiny particl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armed along parts of the coast for hum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ornback 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arge flattene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keleton made from cartilage (like your nose and ears) instead 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s egg-cases are known as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You can find 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mo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 long-necked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cellent underwater 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s fish under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ften seen standing with its wings held out to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Welsh coast and further 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uttlefish are a kind of mollusc called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ephalopo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squid and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reatened they release ink into the water to confuse predators so they can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ctive predators feeding on molluscs, young fish, and c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3-10-11T12:42:37Z</dcterms:modified>
  <cp:revision>35</cp:revision>
  <dc:subject/>
  <dc:title>Slide 1</dc:title>
</cp:coreProperties>
</file>