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78B-7DDB-479B-8E4A-4286B60E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E37-99B0-4CB1-A0A0-84510E3E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582-FE1C-43B7-B791-FA68B57E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1BE-1D80-45C6-8B85-CF63E547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D57-DC49-4361-912C-3CC1994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A82-EDE6-40BB-B37C-EA4095A6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BA2-347F-46B5-8440-84BCFF6A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B73-762B-421C-8A3D-84997F1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7D4-1618-42DA-87C1-0B23DF5B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FED-2249-4A2B-AA05-2B6EA488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8DC-1EED-4D71-BCAE-0AA08D7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29F-013D-4DC3-9F92-7856BD9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2F41-10AA-4DAF-A2DD-74CACFA283A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  <a:ea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What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 is full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some of the main types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lants and animal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3640" y="573336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000" y="4653000"/>
              <a:ext cx="43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000" y="4005000"/>
              <a:ext cx="57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7000"/>
              <a:ext cx="36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000" y="5733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4360" y="4653000"/>
              <a:ext cx="72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360" y="5949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720" y="486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Many kinds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an be red, brown 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Use sunlight and CO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to generat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have air pockets to help them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Attached to rocks or sea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360" y="5805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280"/>
            <a:chOff x="5435640" y="1557360"/>
            <a:chExt cx="2945160" cy="208728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360" y="3501000"/>
              <a:ext cx="576000" cy="143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tream-lined body and fins for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btain oxygen through g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ange in size from less than 1cm to 1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mportant food for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360" y="234900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2360" y="4149000"/>
              <a:ext cx="79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ree main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les &amp;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tees &amp; dug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eed young o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rm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lue whale is the largest animal that has ever li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360" y="306900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000" y="465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360" y="6237720"/>
              <a:ext cx="86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seabirds spend their whole lives at sea – only coming to land to rais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s remain along coasts al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ten nest in huge colonies on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batrosses are the largest seabirds (wingspan up to 3.5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: puffins, gulls, penguins, sea ducks and cormo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4360" y="3212640"/>
              <a:ext cx="576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1360"/>
              <a:ext cx="648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>
            <a:off x="4140360" y="4508640"/>
            <a:ext cx="2663640" cy="7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r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imals with no back-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ots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llus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"/>
            <p:cNvSpPr/>
            <p:nvPr/>
          </p:nvSpPr>
          <p:spPr>
            <a:xfrm>
              <a:off x="730836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3"/>
            <p:cNvSpPr/>
            <p:nvPr/>
          </p:nvSpPr>
          <p:spPr>
            <a:xfrm>
              <a:off x="738360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"/>
            <p:cNvSpPr/>
            <p:nvPr/>
          </p:nvSpPr>
          <p:spPr>
            <a:xfrm>
              <a:off x="7452360" y="443772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3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7525080" y="3212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7669080" y="4508640"/>
              <a:ext cx="28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4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5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7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8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9">
              <a:hlinkClick r:id="rId10"/>
            </p:cNvPr>
            <p:cNvSpPr/>
            <p:nvPr/>
          </p:nvSpPr>
          <p:spPr>
            <a:xfrm>
              <a:off x="7451640" y="2996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>
              <a:hlinkClick r:id="rId11"/>
            </p:cNvPr>
            <p:cNvSpPr/>
            <p:nvPr/>
          </p:nvSpPr>
          <p:spPr>
            <a:xfrm>
              <a:off x="7451640" y="4364640"/>
              <a:ext cx="504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8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116"/>
            <p:cNvSpPr/>
            <p:nvPr/>
          </p:nvSpPr>
          <p:spPr>
            <a:xfrm>
              <a:off x="6227640" y="256428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9"/>
            <p:cNvSpPr/>
            <p:nvPr/>
          </p:nvSpPr>
          <p:spPr>
            <a:xfrm>
              <a:off x="6227640" y="393336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0"/>
            <p:cNvSpPr/>
            <p:nvPr/>
          </p:nvSpPr>
          <p:spPr>
            <a:xfrm>
              <a:off x="7367760" y="299628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3"/>
            <p:cNvSpPr/>
            <p:nvPr/>
          </p:nvSpPr>
          <p:spPr>
            <a:xfrm>
              <a:off x="7435440" y="436536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>
              <a:hlinkClick r:id="rId16"/>
            </p:cNvPr>
            <p:cNvSpPr/>
            <p:nvPr/>
          </p:nvSpPr>
          <p:spPr>
            <a:xfrm>
              <a:off x="7380360" y="1772280"/>
              <a:ext cx="576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>
              <a:hlinkClick r:id="rId17"/>
            </p:cNvPr>
            <p:cNvSpPr/>
            <p:nvPr/>
          </p:nvSpPr>
          <p:spPr>
            <a:xfrm>
              <a:off x="7452360" y="306864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7">
              <a:hlinkClick r:id="rId18"/>
            </p:cNvPr>
            <p:cNvSpPr/>
            <p:nvPr/>
          </p:nvSpPr>
          <p:spPr>
            <a:xfrm>
              <a:off x="7452360" y="443736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1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"/>
            <p:cNvSpPr/>
            <p:nvPr/>
          </p:nvSpPr>
          <p:spPr>
            <a:xfrm>
              <a:off x="7396560" y="1700640"/>
              <a:ext cx="576000" cy="45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23">
              <a:hlinkClick r:id="rId21"/>
            </p:cNvPr>
            <p:cNvSpPr/>
            <p:nvPr/>
          </p:nvSpPr>
          <p:spPr>
            <a:xfrm>
              <a:off x="7540560" y="3140640"/>
              <a:ext cx="360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25">
              <a:hlinkClick r:id="rId23"/>
            </p:cNvPr>
            <p:cNvSpPr/>
            <p:nvPr/>
          </p:nvSpPr>
          <p:spPr>
            <a:xfrm>
              <a:off x="7540560" y="4508640"/>
              <a:ext cx="43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sea is not all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t is ful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You have seen some of the wide variety of habitats found with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some of the millions of creatures that liv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Over to you: spend a few minutes discussing what you have learnt with your class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Most of our planet is s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70% of the Earth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s surface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97% of water is sea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Here i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5167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We are surrounded by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Where do sea creature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Just like on land, the sea contains lots of different types of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ach habitat supports a range of species of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ditions such as water temperature, depth and ocean currents affect where each species can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cean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kelp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Kelp is a kind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Huge underwater forests absorb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and other species live amongst the 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0360" y="4869360"/>
              <a:ext cx="504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ly in warm tropic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upport 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iggest is Great Barrier Reef of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tains 1,500 different kinds of f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urtles, sharks, dolphins and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360" y="551736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open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Vast expanses of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way from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me of the biggest animals live here e.g.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4360" y="472464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 the depths of the sea live some very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Live in complete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make their ow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is creature is a deep-sea isop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4000" cy="288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inter-tidal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11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ter-tidal means 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etween the tides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t is the area on the shore covered at high tide but exposed at low 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Easiest place to explore marin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cludes beaches, rock pools and mudf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360"/>
              <a:ext cx="108036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li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 cliffs are especially important for nesting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seabirds nest together in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ls raise their young in secluded coves between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6720" y="501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3-10-11T12:51:07Z</dcterms:modified>
  <cp:revision>42</cp:revision>
  <dc:subject/>
  <dc:title>Marine &amp; Coastal Biodiversity</dc:title>
</cp:coreProperties>
</file>